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9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388-E035-4474-A36F-A396288A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EB1-BEF2-472E-9B4D-23A433C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4AB-EBEA-4487-8628-967C2594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763-D45A-45C7-92B3-730D8219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386-FD8D-452C-9AD7-7BB69EE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193-CC28-479F-BFFA-09FD90D4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39B-9BAB-4068-9B25-1822756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91E-372B-48D1-B145-B440474C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D70-9B6C-4056-8166-B620A34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31A-3A7D-4166-9A17-F7ED7CB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DDE-C850-441D-88D8-0572998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7DD-EECD-4B23-98E4-1273E7F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FFC1-62D4-4D6C-8402-98DDD3842A93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hyperlink" Target="file:///MockUp_LCA%20application/PreArrival_N.pp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hyperlink" Target="file:///MessageSequences/PreArrival_PortPlusMessage_N.ppt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hyperlink" Target="file:///MessageSequences/PreArrival_PortPlusMessage_U.pp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hyperlink" Target="file:///MockUp_LCA%20application/PreArrival_U.ppt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hyperlink" Target="file:///MessageSequences/PreArrivalHazmat_PortPlusMessage_N.pp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hyperlink" Target="file:///MockUp_LCA%20application/PreArrivalwithHazmat_N.ppt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hyperlink" Target="file:///MockUp_LCA%20application/PreArrival_Hazmat_U.pp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1492200"/>
            <a:ext cx="3962520" cy="34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Port-Plus message implementation at Member Stat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Example of the data provider application for sending/ updating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64B-AA45-45EC-820D-3682DAD227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9720" y="1093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Reporting </a:t>
            </a:r>
            <a:r>
              <a:rPr b="1" lang="en-US" sz="2900" spc="-1" strike="noStrike" u="sng">
                <a:solidFill>
                  <a:srgbClr val="0078c7"/>
                </a:solidFill>
                <a:uFillTx/>
                <a:latin typeface="Verdana"/>
              </a:rPr>
              <a:t>Hazmat</a:t>
            </a: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 for </a:t>
            </a:r>
            <a:r>
              <a:rPr b="1" lang="en-US" sz="2900" spc="-1" strike="noStrike" u="sng">
                <a:solidFill>
                  <a:srgbClr val="0078c7"/>
                </a:solidFill>
                <a:uFillTx/>
                <a:latin typeface="Verdana"/>
              </a:rPr>
              <a:t>EU departures</a:t>
            </a:r>
            <a:endParaRPr b="1" lang="en-US" sz="29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7920000" cy="41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txBody>
          <a:bodyPr anchor="t">
            <a:normAutofit/>
          </a:bodyPr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Two possibilities are supported: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2b71"/>
                </a:solidFill>
                <a:uFillTx/>
                <a:latin typeface="Verdana"/>
              </a:rPr>
              <a:t>Option 1: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ff9933"/>
                </a:solidFill>
                <a:latin typeface="Verdana"/>
              </a:rPr>
              <a:t>Single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9933"/>
                </a:solidFill>
                <a:latin typeface="Verdana"/>
              </a:rPr>
              <a:t>reporting Hazmat </a:t>
            </a:r>
            <a:r>
              <a:rPr b="1" lang="en-GB" sz="2000" spc="-1" strike="noStrike" u="sng">
                <a:solidFill>
                  <a:srgbClr val="ff9933"/>
                </a:solidFill>
                <a:uFillTx/>
                <a:latin typeface="Verdana"/>
              </a:rPr>
              <a:t>prior</a:t>
            </a:r>
            <a:r>
              <a:rPr b="0" lang="en-GB" sz="1800" spc="-1" strike="noStrike">
                <a:solidFill>
                  <a:srgbClr val="ff9933"/>
                </a:solidFill>
                <a:latin typeface="Verdana"/>
              </a:rPr>
              <a:t> to the </a:t>
            </a:r>
            <a:r>
              <a:rPr b="0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departure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using a 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dinstict PortPlus message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including the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HAZMATNotification InfoEUdepartures element </a:t>
            </a: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ONL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2b71"/>
                </a:solidFill>
                <a:uFillTx/>
                <a:latin typeface="Verdana"/>
              </a:rPr>
              <a:t>Option 2: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ff9933"/>
                </a:solidFill>
                <a:latin typeface="Verdana"/>
              </a:rPr>
              <a:t>Combined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9933"/>
                </a:solidFill>
                <a:latin typeface="Verdana"/>
              </a:rPr>
              <a:t>reporting Hazmat </a:t>
            </a:r>
            <a:r>
              <a:rPr b="1" lang="en-GB" sz="2000" spc="-1" strike="noStrike" u="sng">
                <a:solidFill>
                  <a:srgbClr val="ff9933"/>
                </a:solidFill>
                <a:uFillTx/>
                <a:latin typeface="Verdana"/>
              </a:rPr>
              <a:t>upon</a:t>
            </a:r>
            <a:r>
              <a:rPr b="0" lang="en-GB" sz="1800" spc="-1" strike="noStrike">
                <a:solidFill>
                  <a:srgbClr val="ff9933"/>
                </a:solidFill>
                <a:latin typeface="Verdana"/>
              </a:rPr>
              <a:t> the </a:t>
            </a:r>
            <a:r>
              <a:rPr b="0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departure</a:t>
            </a:r>
            <a:r>
              <a:rPr b="0" lang="en-GB" sz="1800" spc="-1" strike="noStrike">
                <a:solidFill>
                  <a:srgbClr val="ff99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using the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same PortPlus message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including the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HAZMATNotification InfoEUdepartures element </a:t>
            </a: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AND</a:t>
            </a: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54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b71"/>
                </a:solidFill>
                <a:latin typeface="Verdana"/>
              </a:rPr>
              <a:t>the DepartureNotification Details element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90A-1CF8-4430-98AD-C10C6E9763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Reporting Hazmat for EU departur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t is up to a M.S. to decide whether to implement reporting option (1) and/or  option (2) in their system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 PortPlus message format imposes no restriction for implementing both options in parallel, but…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b71"/>
                </a:solidFill>
                <a:latin typeface="Verdana"/>
              </a:rPr>
              <a:t>BE AWARE of the new naming convention for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b71"/>
                </a:solidFill>
                <a:latin typeface="Verdana"/>
              </a:rPr>
              <a:t>!!  </a:t>
            </a:r>
            <a:r>
              <a:rPr b="0" lang="en-GB" sz="2800" spc="-1" strike="noStrike" u="sng">
                <a:solidFill>
                  <a:srgbClr val="002b71"/>
                </a:solidFill>
                <a:uFillTx/>
                <a:latin typeface="Verdana"/>
              </a:rPr>
              <a:t>PORT OF CALL</a:t>
            </a:r>
            <a:r>
              <a:rPr b="0" lang="en-GB" sz="2800" spc="-1" strike="noStrike">
                <a:solidFill>
                  <a:srgbClr val="002b71"/>
                </a:solidFill>
                <a:latin typeface="Verdana"/>
              </a:rPr>
              <a:t> and </a:t>
            </a:r>
            <a:r>
              <a:rPr b="0" lang="en-GB" sz="2800" spc="-1" strike="noStrike" u="sng">
                <a:solidFill>
                  <a:srgbClr val="002b71"/>
                </a:solidFill>
                <a:uFillTx/>
                <a:latin typeface="Verdana"/>
              </a:rPr>
              <a:t>NEXT PORT</a:t>
            </a:r>
            <a:r>
              <a:rPr b="0" lang="en-GB" sz="2800" spc="-1" strike="noStrike">
                <a:solidFill>
                  <a:srgbClr val="002b71"/>
                </a:solidFill>
                <a:latin typeface="Verdana"/>
              </a:rPr>
              <a:t>  !!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9B8-9D03-41D7-AFED-9C6C11FACD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Reporting Hazmat for EU departur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602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E AWARE of the new naming convention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n HAZMAT-EU context!!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PORT OF CALL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is the </a:t>
            </a:r>
            <a:r>
              <a:rPr b="1" lang="en-GB" sz="1600" spc="-1" strike="noStrike" u="sng">
                <a:solidFill>
                  <a:srgbClr val="ff9933"/>
                </a:solidFill>
                <a:uFillTx/>
                <a:latin typeface="Verdana"/>
              </a:rPr>
              <a:t>departing Hazmat (loading) Port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– therefore the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ETDfromPortofCall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(or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ATD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) is mandatory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80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NEXT PORT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is the </a:t>
            </a:r>
            <a:r>
              <a:rPr b="1" lang="en-GB" sz="1600" spc="-1" strike="noStrike" u="sng">
                <a:solidFill>
                  <a:srgbClr val="ff9933"/>
                </a:solidFill>
                <a:uFillTx/>
                <a:latin typeface="Verdana"/>
              </a:rPr>
              <a:t>destination port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, therefore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ETAtoNextPort 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and 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NextPort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are mandatory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80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0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HAZMAT-EU </a:t>
            </a:r>
            <a:r>
              <a:rPr b="1" lang="en-GB" sz="1800" spc="-1" strike="noStrike" u="sng">
                <a:solidFill>
                  <a:srgbClr val="ff9933"/>
                </a:solidFill>
                <a:uFillTx/>
                <a:latin typeface="Verdana"/>
              </a:rPr>
              <a:t>POB</a:t>
            </a:r>
            <a:r>
              <a:rPr b="1" lang="en-GB" sz="1800" spc="-1" strike="noStrike">
                <a:solidFill>
                  <a:srgbClr val="ff9933"/>
                </a:solidFill>
                <a:latin typeface="Verdana"/>
              </a:rPr>
              <a:t> upon departure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 (when notifications are integrated) has to be declared as well.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Therefore two distinct attributes are foreseen: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- one for the pre-arrival/HAZMAT-NonEU notification; and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9933"/>
                </a:solidFill>
                <a:latin typeface="Verdana"/>
              </a:rPr>
              <a:t>- a different one for the Departure/HAZMAT-EU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64C-B635-4B33-AF14-4F17497097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8c7"/>
                </a:solidFill>
                <a:latin typeface="Verdana"/>
              </a:rPr>
              <a:t>BE AWARE of the HAZMAT-EU context!!</a:t>
            </a: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WHENEVER BOTH OPTIONS WILL BE APPLIE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MS APPLICATION SHOULD USE </a:t>
            </a:r>
            <a:r>
              <a:rPr b="0" lang="en-US" sz="2000" spc="-1" strike="noStrike" u="sng">
                <a:solidFill>
                  <a:srgbClr val="002b71"/>
                </a:solidFill>
                <a:uFillTx/>
                <a:latin typeface="Verdana"/>
              </a:rPr>
              <a:t>THE SAME SHIPCALLID FOR BOTH HAZMAT AND ATD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NOTIFICAT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-EIS WILL CONSIDER THE HAZMAT-EU REPORTED AS PART OF THE SHIP CALL TO THE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PORT OF CALL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(DEPARTING HAZMAT LOADING PORT)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91F-A63C-47FE-BB73-F2739F891C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19280" y="1290600"/>
          <a:ext cx="7356600" cy="52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90600"/>
                    <a:ext cx="735660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8920" y="2038320"/>
            <a:ext cx="24127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, reporting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Hazmat EU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(distinct message)</a:t>
            </a:r>
            <a:br>
              <a:rPr sz="2400"/>
            </a:br>
            <a:r>
              <a:rPr b="1" lang="en-US" sz="1400" spc="-1" strike="noStrike">
                <a:solidFill>
                  <a:srgbClr val="0078c7"/>
                </a:solidFill>
                <a:latin typeface="Verdana"/>
              </a:rPr>
              <a:t>“UpdateStatus N</a:t>
            </a:r>
            <a:br>
              <a:rPr sz="1400"/>
            </a:br>
            <a:r>
              <a:rPr b="1" lang="en-US" sz="1400" spc="-1" strike="noStrike">
                <a:solidFill>
                  <a:srgbClr val="0078c7"/>
                </a:solidFill>
                <a:latin typeface="Verdana"/>
              </a:rPr>
              <a:t>  or U”</a:t>
            </a:r>
            <a:endParaRPr b="1" lang="en-US" sz="1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664320" y="4991040"/>
            <a:ext cx="1224000" cy="3412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20000" y="1719360"/>
            <a:ext cx="1549080" cy="341280"/>
            <a:chOff x="7020000" y="1719360"/>
            <a:chExt cx="1549080" cy="341280"/>
          </a:xfrm>
        </p:grpSpPr>
        <p:sp>
          <p:nvSpPr>
            <p:cNvPr id="120" name=""/>
            <p:cNvSpPr/>
            <p:nvPr/>
          </p:nvSpPr>
          <p:spPr>
            <a:xfrm>
              <a:off x="7235640" y="1719360"/>
              <a:ext cx="1224000" cy="341280"/>
            </a:xfrm>
            <a:prstGeom prst="flowChartAlternateProcess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0720" y="17305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173052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758920" y="5013360"/>
            <a:ext cx="2305440" cy="366120"/>
            <a:chOff x="5758920" y="5013360"/>
            <a:chExt cx="2305440" cy="366120"/>
          </a:xfrm>
        </p:grpSpPr>
        <p:sp>
          <p:nvSpPr>
            <p:cNvPr id="124" name=""/>
            <p:cNvSpPr/>
            <p:nvPr/>
          </p:nvSpPr>
          <p:spPr>
            <a:xfrm>
              <a:off x="6696000" y="5013360"/>
              <a:ext cx="136836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758560" y="5134680"/>
              <a:ext cx="792360" cy="244440"/>
            </a:xfrm>
            <a:custGeom>
              <a:avLst/>
              <a:gdLst>
                <a:gd name="textAreaLeft" fmla="*/ 264240 w 792360"/>
                <a:gd name="textAreaRight" fmla="*/ 678600 w 792360"/>
                <a:gd name="textAreaTop" fmla="*/ 140760 h 244440"/>
                <a:gd name="textAreaBottom" fmla="*/ 20952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93F-FA5B-4E39-BCEB-E301160B7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42960" y="1154160"/>
          <a:ext cx="7242120" cy="551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2960" y="1154160"/>
                    <a:ext cx="724212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920" y="1619280"/>
            <a:ext cx="241272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upon departure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75640" y="5300640"/>
            <a:ext cx="1368000" cy="341280"/>
            <a:chOff x="6875640" y="5300640"/>
            <a:chExt cx="1368000" cy="341280"/>
          </a:xfrm>
        </p:grpSpPr>
        <p:sp>
          <p:nvSpPr>
            <p:cNvPr id="130" name=""/>
            <p:cNvSpPr/>
            <p:nvPr/>
          </p:nvSpPr>
          <p:spPr>
            <a:xfrm>
              <a:off x="7066080" y="5300640"/>
              <a:ext cx="108108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5120" y="5311800"/>
              <a:ext cx="120852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5640" y="5311800"/>
              <a:ext cx="15948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093080" y="1216080"/>
            <a:ext cx="1549080" cy="341280"/>
            <a:chOff x="7093080" y="1216080"/>
            <a:chExt cx="1549080" cy="341280"/>
          </a:xfrm>
        </p:grpSpPr>
        <p:sp>
          <p:nvSpPr>
            <p:cNvPr id="134" name=""/>
            <p:cNvSpPr/>
            <p:nvPr/>
          </p:nvSpPr>
          <p:spPr>
            <a:xfrm>
              <a:off x="7308720" y="1216080"/>
              <a:ext cx="1224000" cy="341280"/>
            </a:xfrm>
            <a:prstGeom prst="flowChartAlternateProcess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73800" y="122724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3080" y="122724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0CE-F6C5-494E-AC42-18A976B1F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C3A-F8EC-456F-9CC5-17DB6BC9A8C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2960" y="1643040"/>
            <a:ext cx="70009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Verdana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143160" y="3143160"/>
            <a:ext cx="51436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Verdana"/>
              </a:rPr>
              <a:t>Q &amp;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CAB-91C5-4403-96F0-2095A392A5BE}" type="slidenum">
              <a:t>16</a:t>
            </a:fld>
          </a:p>
        </p:txBody>
      </p:sp>
    </p:spTree>
  </p:cSld>
  <p:transition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Objectives of this presenta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Explanation of the message flow in the various phases of a ship call (before arrival, upon arrival and on departure)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Presentation of the “</a:t>
            </a:r>
            <a:r>
              <a:rPr b="0" i="1" lang="en-GB" sz="2400" spc="-1" strike="noStrike">
                <a:solidFill>
                  <a:srgbClr val="002b71"/>
                </a:solidFill>
                <a:latin typeface="Verdana"/>
              </a:rPr>
              <a:t>maquette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” of an hypothetical LCA system application to insert/ update data relevant to the PortPlus message at MS national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459-8582-4812-A0A2-67F4412FE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4680" y="1143000"/>
            <a:ext cx="566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8c7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 Ships /Voyage scenario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35344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cenario 1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essel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ICARO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eligible for an expanded inspecti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2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oyage: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Singapore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last port)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Southampton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port of call)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Hamburg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next port)</a:t>
            </a: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rmation reported   </a:t>
            </a:r>
            <a:r>
              <a:rPr b="1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3 days+24hours</a:t>
            </a: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 pre-arrival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,  </a:t>
            </a:r>
            <a:r>
              <a:rPr b="1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HAZMAT-NonEU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cenario 2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essel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ICARUS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PALACE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arrived in Southampt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rmation reported  </a:t>
            </a:r>
            <a:r>
              <a:rPr b="1" lang="fr-FR" sz="1400" spc="-1" strike="noStrike" u="sng">
                <a:solidFill>
                  <a:srgbClr val="002b71"/>
                </a:solidFill>
                <a:uFillTx/>
                <a:latin typeface="Verdana"/>
              </a:rPr>
              <a:t>ATA 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2b71"/>
                </a:solidFill>
                <a:uFillTx/>
                <a:latin typeface="Verdana"/>
              </a:rPr>
              <a:t>Scenario 3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essel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ICARUS III 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2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Voyage: 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Hong Kong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last port)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 Southampton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port of call)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2b71"/>
                </a:solidFill>
                <a:latin typeface="Wingdings"/>
                <a:ea typeface="Wingdings"/>
              </a:rPr>
              <a:t></a:t>
            </a:r>
            <a:r>
              <a:rPr b="1" lang="en-GB" sz="1400" spc="-1" strike="noStrike">
                <a:solidFill>
                  <a:srgbClr val="002b71"/>
                </a:solidFill>
                <a:latin typeface="Verdana"/>
              </a:rPr>
              <a:t> Hamburg </a:t>
            </a:r>
            <a:r>
              <a:rPr b="1" lang="en-GB" sz="1000" spc="-1" strike="noStrike">
                <a:solidFill>
                  <a:srgbClr val="002b71"/>
                </a:solidFill>
                <a:latin typeface="Verdana"/>
              </a:rPr>
              <a:t>(next port)</a:t>
            </a: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34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71"/>
                </a:solidFill>
                <a:latin typeface="Verdana"/>
              </a:rPr>
              <a:t>DG loaded in Southampton</a:t>
            </a:r>
            <a:endParaRPr b="0" lang="en-US" sz="1400" spc="-1" strike="noStrike">
              <a:solidFill>
                <a:srgbClr val="002b71"/>
              </a:solidFill>
              <a:latin typeface="Verdana"/>
            </a:endParaRPr>
          </a:p>
          <a:p>
            <a:pPr lvl="1" marL="669960" indent="-168480">
              <a:lnSpc>
                <a:spcPct val="80000"/>
              </a:lnSpc>
              <a:spcBef>
                <a:spcPts val="400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b71"/>
                </a:solidFill>
                <a:latin typeface="Verdana"/>
              </a:rPr>
              <a:t>Information reported  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HAZMAT-EU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 ,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ATD</a:t>
            </a:r>
            <a:r>
              <a:rPr b="1" lang="en-GB" sz="1600" spc="-1" strike="noStrike">
                <a:solidFill>
                  <a:srgbClr val="002b71"/>
                </a:solidFill>
                <a:latin typeface="Verdana"/>
              </a:rPr>
              <a:t> + </a:t>
            </a:r>
            <a:r>
              <a:rPr b="1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HAZMAT-EU update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916280"/>
            <a:ext cx="8064360" cy="1368360"/>
          </a:xfrm>
          <a:prstGeom prst="rect">
            <a:avLst/>
          </a:prstGeom>
          <a:solidFill>
            <a:srgbClr val="ccffff">
              <a:alpha val="25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5616360" cy="1295640"/>
          </a:xfrm>
          <a:prstGeom prst="rect">
            <a:avLst/>
          </a:prstGeom>
          <a:solidFill>
            <a:srgbClr val="ccffff">
              <a:alpha val="25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103720"/>
            <a:ext cx="8136000" cy="1368360"/>
          </a:xfrm>
          <a:prstGeom prst="rect">
            <a:avLst/>
          </a:prstGeom>
          <a:solidFill>
            <a:srgbClr val="ccffff">
              <a:alpha val="25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343-700B-488A-80E7-6FD9EC9BD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8c7"/>
                </a:solidFill>
                <a:latin typeface="Verdana"/>
              </a:rPr>
              <a:t>New attribut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0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6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MSRefID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UpdateMSRefID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UpdateStatus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f9933"/>
                </a:solidFill>
                <a:latin typeface="Verdana"/>
              </a:rPr>
              <a:t>ShipCallID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GB" sz="2000" spc="-1" strike="noStrike" u="sng">
                <a:solidFill>
                  <a:srgbClr val="ff9933"/>
                </a:solidFill>
                <a:uFillTx/>
                <a:latin typeface="Verdana"/>
              </a:rPr>
              <a:t>should  be generated by the application(s)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 at Member State Level and </a:t>
            </a:r>
            <a:r>
              <a:rPr b="0" lang="en-GB" sz="2000" spc="-1" strike="noStrike" u="sng">
                <a:solidFill>
                  <a:srgbClr val="ff9933"/>
                </a:solidFill>
                <a:uFillTx/>
                <a:latin typeface="Verdana"/>
              </a:rPr>
              <a:t>inserted automatically</a:t>
            </a:r>
            <a:r>
              <a:rPr b="0" lang="en-GB" sz="2000" spc="-1" strike="noStrike">
                <a:solidFill>
                  <a:srgbClr val="ff9933"/>
                </a:solidFill>
                <a:latin typeface="Verdana"/>
              </a:rPr>
              <a:t> in the PortPlus messages sent to SSN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-266760" algn="just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at is, the implementation does not impose any additional reporting requirement to the actual data provider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 new attributes will contribute to maintain very high quality and data consistency 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758-F1FD-4149-8A90-2B6804190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050920" y="836640"/>
          <a:ext cx="6346800" cy="57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63468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920" y="1618920"/>
            <a:ext cx="241272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during    Pre-arrival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N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36000" y="1143000"/>
            <a:ext cx="1549080" cy="341280"/>
            <a:chOff x="7236000" y="1143000"/>
            <a:chExt cx="1549080" cy="341280"/>
          </a:xfrm>
        </p:grpSpPr>
        <p:sp>
          <p:nvSpPr>
            <p:cNvPr id="56" name=""/>
            <p:cNvSpPr/>
            <p:nvPr/>
          </p:nvSpPr>
          <p:spPr>
            <a:xfrm>
              <a:off x="7451640" y="114300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16720" y="115416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5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36000" y="115416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126200" y="6108840"/>
            <a:ext cx="1549080" cy="341280"/>
            <a:chOff x="7126200" y="6108840"/>
            <a:chExt cx="1549080" cy="341280"/>
          </a:xfrm>
        </p:grpSpPr>
        <p:sp>
          <p:nvSpPr>
            <p:cNvPr id="60" name=""/>
            <p:cNvSpPr/>
            <p:nvPr/>
          </p:nvSpPr>
          <p:spPr>
            <a:xfrm>
              <a:off x="7341840" y="6108840"/>
              <a:ext cx="1224000" cy="341280"/>
            </a:xfrm>
            <a:prstGeom prst="flowChartAlternateProcess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06920" y="612000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6200" y="612000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FE7-27AF-448B-B10E-DBF2C352E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96960" y="1038240"/>
          <a:ext cx="7547040" cy="52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1038240"/>
                    <a:ext cx="754704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619280"/>
            <a:ext cx="241272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during    Pre-arrival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88000" y="5915160"/>
            <a:ext cx="1549080" cy="341280"/>
            <a:chOff x="6588000" y="5915160"/>
            <a:chExt cx="1549080" cy="341280"/>
          </a:xfrm>
        </p:grpSpPr>
        <p:sp>
          <p:nvSpPr>
            <p:cNvPr id="67" name=""/>
            <p:cNvSpPr/>
            <p:nvPr/>
          </p:nvSpPr>
          <p:spPr>
            <a:xfrm>
              <a:off x="6803640" y="591516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68720" y="59263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5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8000" y="592632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16760" y="1076400"/>
            <a:ext cx="1549080" cy="341280"/>
            <a:chOff x="7016760" y="1076400"/>
            <a:chExt cx="1549080" cy="341280"/>
          </a:xfrm>
        </p:grpSpPr>
        <p:sp>
          <p:nvSpPr>
            <p:cNvPr id="71" name=""/>
            <p:cNvSpPr/>
            <p:nvPr/>
          </p:nvSpPr>
          <p:spPr>
            <a:xfrm>
              <a:off x="7232400" y="1076400"/>
              <a:ext cx="1224000" cy="341280"/>
            </a:xfrm>
            <a:prstGeom prst="flowChartAlternateProcess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97480" y="108756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16760" y="108756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E5B-E190-4B65-924A-5403E4F8A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098800" y="895320"/>
          <a:ext cx="6181560" cy="560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8800" y="895320"/>
                    <a:ext cx="618156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560" y="1484280"/>
            <a:ext cx="302580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(Pre-arrival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Hazmat Non EU)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N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016760" y="6154560"/>
            <a:ext cx="1549080" cy="341280"/>
            <a:chOff x="7016760" y="6154560"/>
            <a:chExt cx="1549080" cy="341280"/>
          </a:xfrm>
        </p:grpSpPr>
        <p:sp>
          <p:nvSpPr>
            <p:cNvPr id="78" name=""/>
            <p:cNvSpPr/>
            <p:nvPr/>
          </p:nvSpPr>
          <p:spPr>
            <a:xfrm>
              <a:off x="7232400" y="615456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97480" y="61657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5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6760" y="616572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236000" y="1143000"/>
            <a:ext cx="1549080" cy="341280"/>
            <a:chOff x="7236000" y="1143000"/>
            <a:chExt cx="1549080" cy="341280"/>
          </a:xfrm>
        </p:grpSpPr>
        <p:sp>
          <p:nvSpPr>
            <p:cNvPr id="82" name=""/>
            <p:cNvSpPr/>
            <p:nvPr/>
          </p:nvSpPr>
          <p:spPr>
            <a:xfrm>
              <a:off x="7451640" y="1143000"/>
              <a:ext cx="1224000" cy="341280"/>
            </a:xfrm>
            <a:prstGeom prst="flowChartAlternateProcess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16720" y="115416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6000" y="115416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333-F490-4F6F-B74E-D94EA4590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332000" y="1434960"/>
          <a:ext cx="721044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434960"/>
                    <a:ext cx="721044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397240"/>
            <a:ext cx="302580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(Pre-arrival/ Hazmat Non EU)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451640" y="1557360"/>
            <a:ext cx="1549080" cy="341280"/>
            <a:chOff x="7451640" y="1557360"/>
            <a:chExt cx="1549080" cy="341280"/>
          </a:xfrm>
        </p:grpSpPr>
        <p:sp>
          <p:nvSpPr>
            <p:cNvPr id="89" name=""/>
            <p:cNvSpPr/>
            <p:nvPr/>
          </p:nvSpPr>
          <p:spPr>
            <a:xfrm>
              <a:off x="7667280" y="155736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2360" y="15685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5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51640" y="156852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270920" y="5950080"/>
            <a:ext cx="1549080" cy="341280"/>
            <a:chOff x="7270920" y="5950080"/>
            <a:chExt cx="1549080" cy="341280"/>
          </a:xfrm>
        </p:grpSpPr>
        <p:sp>
          <p:nvSpPr>
            <p:cNvPr id="93" name=""/>
            <p:cNvSpPr/>
            <p:nvPr/>
          </p:nvSpPr>
          <p:spPr>
            <a:xfrm>
              <a:off x="7486560" y="5950080"/>
              <a:ext cx="1224000" cy="341280"/>
            </a:xfrm>
            <a:prstGeom prst="flowChartAlternateProcess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51640" y="596124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70920" y="596124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C7D-C0BB-4A24-ACB8-F003B00BE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27280" y="1154160"/>
          <a:ext cx="68133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7280" y="1154160"/>
                    <a:ext cx="681336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241272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Message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flow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upon Arrival</a:t>
            </a:r>
            <a:br>
              <a:rPr sz="2400"/>
            </a:br>
            <a:r>
              <a:rPr b="1" lang="en-US" sz="1600" spc="-1" strike="noStrike">
                <a:solidFill>
                  <a:srgbClr val="0078c7"/>
                </a:solidFill>
                <a:latin typeface="Verdana"/>
              </a:rPr>
              <a:t>“UpdateStatus U”</a:t>
            </a:r>
            <a:endParaRPr b="1" lang="en-US" sz="1600" spc="-1" strike="noStrike">
              <a:solidFill>
                <a:srgbClr val="0078c7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659640" y="5300640"/>
            <a:ext cx="1549080" cy="341280"/>
            <a:chOff x="6659640" y="5300640"/>
            <a:chExt cx="1549080" cy="341280"/>
          </a:xfrm>
        </p:grpSpPr>
        <p:sp>
          <p:nvSpPr>
            <p:cNvPr id="100" name=""/>
            <p:cNvSpPr/>
            <p:nvPr/>
          </p:nvSpPr>
          <p:spPr>
            <a:xfrm>
              <a:off x="6875280" y="5300640"/>
              <a:ext cx="1224000" cy="341280"/>
            </a:xfrm>
            <a:prstGeom prst="flowChartAlternateProcess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0360" y="531180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mess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9640" y="531180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020000" y="1341360"/>
            <a:ext cx="1549080" cy="341280"/>
            <a:chOff x="7020000" y="1341360"/>
            <a:chExt cx="1549080" cy="341280"/>
          </a:xfrm>
        </p:grpSpPr>
        <p:sp>
          <p:nvSpPr>
            <p:cNvPr id="104" name=""/>
            <p:cNvSpPr/>
            <p:nvPr/>
          </p:nvSpPr>
          <p:spPr>
            <a:xfrm>
              <a:off x="7235640" y="1341360"/>
              <a:ext cx="1224000" cy="341280"/>
            </a:xfrm>
            <a:prstGeom prst="flowChartAlternateProcess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00720" y="1352520"/>
              <a:ext cx="1368360" cy="244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h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20000" y="1352520"/>
              <a:ext cx="180720" cy="244440"/>
            </a:xfrm>
            <a:prstGeom prst="leftArrow">
              <a:avLst>
                <a:gd name="adj1" fmla="val 50000"/>
                <a:gd name="adj2" fmla="val 2500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BEF-F260-4E20-BCAD-25C1D016B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3:23:28Z</dcterms:created>
  <dc:creator>Nikos Panagiotarakis</dc:creator>
  <dc:description/>
  <dc:language>en-US</dc:language>
  <cp:lastModifiedBy>FIAMMA Lorenzo</cp:lastModifiedBy>
  <cp:lastPrinted>2004-03-26T09:05:49Z</cp:lastPrinted>
  <dcterms:modified xsi:type="dcterms:W3CDTF">2009-05-07T15:32:32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2557976</vt:r8>
  </property>
  <property fmtid="{D5CDD505-2E9C-101B-9397-08002B2CF9AE}" pid="3" name="_AuthorEmail">
    <vt:lpwstr>Andrew.STIMPSON@cec.eu.int</vt:lpwstr>
  </property>
  <property fmtid="{D5CDD505-2E9C-101B-9397-08002B2CF9AE}" pid="4" name="_AuthorEmailDisplayName">
    <vt:lpwstr>STIMPSON Andrew (TREN)</vt:lpwstr>
  </property>
  <property fmtid="{D5CDD505-2E9C-101B-9397-08002B2CF9AE}" pid="5" name="_EmailSubject">
    <vt:lpwstr>ppt emea</vt:lpwstr>
  </property>
  <property fmtid="{D5CDD505-2E9C-101B-9397-08002B2CF9AE}" pid="6" name="_ReviewingToolsShownOnce">
    <vt:lpwstr/>
  </property>
</Properties>
</file>