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A34-F24D-443D-94AE-2A45245C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999-01D9-4E41-B249-D99CA19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9BB-CA8A-4B7F-9978-51708B9E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4B3-2229-4BEA-A879-112898B2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8AB-991C-4148-AA8C-D9F7907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90B-AF02-499C-9215-108476C7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C06-AEC8-49C8-A2D2-287622D9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D3F-D809-42FB-BBE4-D9D6E02B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2F8-82F1-4706-8C15-947E8725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24B-1188-450C-B8D5-E006C73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0C1-60E8-4AA6-A0F0-D5AAE160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AC1-79FD-41AB-992D-1941DA8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B55F-DE7A-478C-BB12-D656C2A2D8F7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Ato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Dfrom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3DaysPre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24hoursPreArrival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Bvoyagetowards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Nikos Panagiotarakis</cp:lastModifiedBy>
  <cp:lastPrinted>2004-03-26T09:05:49Z</cp:lastPrinted>
  <dcterms:modified xsi:type="dcterms:W3CDTF">2009-04-14T14:58:27Z</dcterms:modified>
  <cp:revision>353</cp:revision>
  <dc:subject/>
  <dc:title>Slide 1</dc:title>
</cp:coreProperties>
</file>