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C90-2330-4A4E-9352-8C765D5D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126-F430-4ADC-9028-9AA6C81C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FEB-3FC8-4604-878D-5A634DD2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BE6-8B3F-47F5-A03E-513D02A9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C92-567E-4EA2-AD0F-B72E2624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2E2-9181-4752-99AD-5733613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3D6-CBDD-43A4-9248-3427230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177-1E51-4776-8733-CFF3B22A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C84-B0A9-489F-B9A8-CC1C30A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C89-FE50-4348-9FAD-CB56E94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D4E-AAFA-4996-A1D5-8725868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A60-F3AC-41EF-BD8D-AAA6D4B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6C7-C76E-4E51-9B32-FB6EA2750F56}" type="slidenum">
              <a:rPr b="1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Ato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Dfrom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24hoursPreArrival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Bvoyagetowards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Nikos Panagiotarakis</cp:lastModifiedBy>
  <cp:lastPrinted>2004-03-26T09:05:49Z</cp:lastPrinted>
  <dcterms:modified xsi:type="dcterms:W3CDTF">2009-04-14T14:57:59Z</dcterms:modified>
  <cp:revision>354</cp:revision>
  <dc:subject/>
  <dc:title>Slide 1</dc:title>
</cp:coreProperties>
</file>