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366-8E8F-434A-992C-A8DAB49C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FE1-AF60-410F-9AA9-EBFC01C8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172-C133-48D1-B1BA-C3CC640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C70-9BA3-49B3-899E-F59F6390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549-98ED-4469-9817-D1A939CA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8CF-5FEF-41C3-86D4-4866A37F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0EA-7FB9-438E-80B6-177C74A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21C-07E6-4B04-8891-D4B3C3FB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73F-0456-4B30-8642-827BB0A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073-35C5-416B-9446-366D8BA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BB5-7E03-4CD6-AE9E-2238AFB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B21-242A-4E67-9AC2-DD564DF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AD5D-293A-4E79-B632-6540C7C6488D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,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, 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24hoursPreArrivalNotification Details) (OCC=0,1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PortOfCall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14T15:01:26Z</dcterms:modified>
  <cp:revision>357</cp:revision>
  <dc:subject/>
  <dc:title>Slide 1</dc:title>
</cp:coreProperties>
</file>