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699-99E3-4E64-B8BA-85D8F1F3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ABB0-E511-4A3D-ACCA-06641880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50A-4F55-418D-88DE-7D1DEFD6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E97-DB23-4C6E-8A20-A8EB852C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7954-68C9-405B-A41F-2B955E26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E0F5-713D-41FE-85FF-8A383121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0787-EF33-49E3-BD72-2DF63A34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DB5F-F679-493D-A08B-986AD473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925-15E5-41C5-BAA6-EB16A7C9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4605-5115-46F7-92E7-B8A63853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1039-F978-4BAD-A467-0C3E1443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BBF-8DE2-4B31-9DC8-8AEF3120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F7DA-AC1B-41B0-820B-FC46A6276DAC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31640" y="1386000"/>
          <a:ext cx="8244000" cy="4178160"/>
        </p:xfrm>
        <a:graphic>
          <a:graphicData uri="http://schemas.openxmlformats.org/drawingml/2006/table">
            <a:tbl>
              <a:tblPr/>
              <a:tblGrid>
                <a:gridCol w="2281320"/>
                <a:gridCol w="5962680"/>
              </a:tblGrid>
              <a:tr h="26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rsion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Id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, MSRefId, SentAt, From, To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ificationStatus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pdateStatus, 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UpdateMSRefI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sselIdentification(OCC=1)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IMONumber, MMSINumber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CallSign, ShipName, 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oyageInformation (OCC=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ShipCallI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LastPort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PortOfCal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PositionInPortOfCall, ETDfrom LastPort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ETAto PortOfCall, ETDfrom PortOfCal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NextPort, ETANextPor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3DaysPreArrival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PossibleAnchorage, PlannedOperations, PlannedWorks, ShipConfiguration, CargoVolumeNature, ConditionCargoBallastTanks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24hoursPreArrivalNotification Details) (OCC=0,1)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POBvoyagetowardsPortOfCall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Persons on Board Voyage towards the Port  of Call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rrival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TA, Anchorag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DepartureNotification Details(OCC=0,1)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T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HAZMATNotification InfoNonEUdepartures (OCC=0,1)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HazmatOnBoardY/N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ypeOfHAZMATcargo (OCC=0,1), UrlDetails (OCC=0,1) or ContactDetails (OCC=0,1), </a:t>
                      </a: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CargoManifestUrlDetails (OCC=0,1) or CargoManifestContactDetails (OCC=0,1)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   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Notification InfoEUdepartures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OnBoardY/N, TypeOfHAZMATcargo (OCC=0,1), POBvoyagetowardsNextPort, UrlDetails (OCC=0,1) or ContactDetails (OCC=0,1), CargoManifestUrlDetails (OCC=0,1) or CargoManifestContactDetails (OCC=0,1)   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407280" y="5829480"/>
            <a:ext cx="509400" cy="244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93080" y="582948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pt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07280" y="6130800"/>
            <a:ext cx="509400" cy="2444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613080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t included at this stag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0" y="5829480"/>
            <a:ext cx="509760" cy="24444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25800" y="582948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0" y="6130800"/>
            <a:ext cx="509760" cy="24444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25800" y="613080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hoice (Mandatory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2000" y="5829480"/>
            <a:ext cx="509760" cy="2444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7800" y="5829480"/>
            <a:ext cx="15955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, depending on message contex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Nikos Panagiotarakis</cp:lastModifiedBy>
  <cp:lastPrinted>2004-03-26T09:05:49Z</cp:lastPrinted>
  <dcterms:modified xsi:type="dcterms:W3CDTF">2009-04-14T14:58:53Z</dcterms:modified>
  <cp:revision>355</cp:revision>
  <dc:subject/>
  <dc:title>Slide 1</dc:title>
</cp:coreProperties>
</file>