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DA25-E0F4-40FE-B9B0-A42EC917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881A-C539-4231-A621-79467669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24EE-6A9A-4E59-9CFF-22B86718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246C-F911-4AB5-9F84-F5F9D340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BCBF-83A3-4295-A9AA-B092BE53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C9F-5958-4338-A139-148F8925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6461-246D-486B-A9D1-B9A80F50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E72-D364-4359-9B94-5470EA69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CE2-8215-40C9-8197-29FD9B37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E2BF-5A23-46C3-924F-908846F5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842-5120-40E7-AB4B-58AD465B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E9F-ACE0-4EAC-B1F4-ACE7D057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8D58-08F6-46EF-886A-944A405226DC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31640" y="1386000"/>
          <a:ext cx="8244000" cy="4178160"/>
        </p:xfrm>
        <a:graphic>
          <a:graphicData uri="http://schemas.openxmlformats.org/drawingml/2006/table">
            <a:tbl>
              <a:tblPr/>
              <a:tblGrid>
                <a:gridCol w="2281320"/>
                <a:gridCol w="5962680"/>
              </a:tblGrid>
              <a:tr h="26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rsion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Id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, MSRefId, SentAt, From, To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NotificationStatus(OCC=0,1)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UpdateStatus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UpdateMSRefI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sselIdentification(OCC=1)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IMONumber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MMSINumber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CallSign, ShipName, 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oyageInformation (OCC=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ShipCallI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LastPort,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 PortOfCal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PositionInPortOfCall, ETDfrom LastPort, ETAto PortOfCall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ETDfrom PortOfCall, NextPort, ETANextPor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3DaysPreArrival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PossibleAnchorage, PlannedOperations, PlannedWorks, ShipConfiguration, CargoVolumeNature, ConditionCargoBallastTanks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24hoursPreArrivalNotification Details)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POBvoyagetowardsPortOfCall (Persons on Board Voyage towards the Port  of Call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rrival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TA, Anchorag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DepartureNotification Details(OCC=0,1)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T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Notification InfoNonEUdeparture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OnBoardY/N, TypeOfHAZMATcargo (OCC=0,1), UrlDetails (OCC=0,1) or ContactDetails (OCC=0,1), CargoManifestUrlDetails (OCC=0,1) or CargoManifestContactDetails (OCC=0,1)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HAZMATNotification InfoEUdepartures(OCC=0,1)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HazmatOnBoardY/N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 TypeOfHAZMATcargo (OCC=0,1)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POBvoyagetowardsNextPort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UrlDetails (OCC=0,1) or ContactDetails (OCC=0,1), </a:t>
                      </a: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CargoManifestUrlDetails (OCC=0,1) or CargoManifestContactDetails (OCC=0,1)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407280" y="5829480"/>
            <a:ext cx="509400" cy="244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93080" y="582948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t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07280" y="6130800"/>
            <a:ext cx="509400" cy="2444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613080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t included at this stag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0" y="5829480"/>
            <a:ext cx="509760" cy="24444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5800" y="582948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0" y="6130800"/>
            <a:ext cx="509760" cy="2444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25800" y="613080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hoice (Mandatory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5829480"/>
            <a:ext cx="509760" cy="2444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7800" y="5829480"/>
            <a:ext cx="15955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, depending on message contex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Nikos Panagiotarakis</cp:lastModifiedBy>
  <cp:lastPrinted>2004-03-26T09:05:49Z</cp:lastPrinted>
  <dcterms:modified xsi:type="dcterms:W3CDTF">2009-04-09T13:38:27Z</dcterms:modified>
  <cp:revision>356</cp:revision>
  <dc:subject/>
  <dc:title>Slide 1</dc:title>
</cp:coreProperties>
</file>