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AD1-A412-4ED9-B60D-E15B2E32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D9D-B475-4921-89FD-D90E5E83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18D-AF67-4CA3-82D6-1DA27EBC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CC3-1AA8-4424-BD8D-79B9C661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7DC-3924-4BA2-9AD6-93D83950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904-23A5-4CBA-8EEB-807605A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27F-7290-4136-A278-7736DEA9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085-06CA-43D0-8F8D-E05C6240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7BD-B863-4F84-8342-672CF3C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C22-4DCA-4B15-9B75-D383B862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1F-91A9-4751-A66F-3622CFC0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CEC-0B84-44A7-81AF-5343340F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5B2-3CDF-468F-96E7-1B3832048A26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ETAto PortOfCall, </a:t>
                      </a: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ETDfrom PortOfCall, NextPor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hoursPreArrival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BvoyagetowardsPortOfCall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, 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DepartureNotification Details(OCC=0,1)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Notification InfoEUdepartures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HazmatOnBoardY/N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ypeOfHAZMATcargo (OCC=0,1),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99ff"/>
                          </a:solidFill>
                          <a:latin typeface="Verdana"/>
                          <a:ea typeface="Times New Roman"/>
                        </a:rPr>
                        <a:t>POBvoyagetowardsNextPort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lDetails (OCC=0,1) or ContactDetails (OCC=0,1),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Nikos Panagiotarakis</cp:lastModifiedBy>
  <cp:lastPrinted>2004-03-26T09:05:49Z</cp:lastPrinted>
  <dcterms:modified xsi:type="dcterms:W3CDTF">2009-04-14T14:57:26Z</dcterms:modified>
  <cp:revision>361</cp:revision>
  <dc:subject/>
  <dc:title>Slide 1</dc:title>
</cp:coreProperties>
</file>