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5AE-E0E0-4FDA-9F9D-862DDB5B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E1F-D2F4-4376-A83E-2B6DE8AA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297-6891-4CFB-9AA5-FA81A7C7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8CD-4044-48EC-97FD-4F4DA97B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B89-FA7D-458D-AE25-C2C290E5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CD4-023D-42E0-A165-4B908F66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EE4-72F0-4B4F-82E0-4E6E755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F98-4BA1-41DD-A4F7-007A2C0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739-7384-4BF8-84FB-4C3AF619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83C-E070-422E-A684-D7DBDA4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C1D-B4B6-45B5-9990-1E1C2D1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38D-74D4-4DA0-AD8E-A9CD2F42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4088-5666-45D3-8D60-BD5843BA18A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31640" y="1386000"/>
          <a:ext cx="8244000" cy="4178160"/>
        </p:xfrm>
        <a:graphic>
          <a:graphicData uri="http://schemas.openxmlformats.org/drawingml/2006/table">
            <a:tbl>
              <a:tblPr/>
              <a:tblGrid>
                <a:gridCol w="2281320"/>
                <a:gridCol w="5962680"/>
              </a:tblGrid>
              <a:tr h="26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rsion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stId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, MSRefId, SentAt, From, To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NotificationStatu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UpdateStatus, UpdateMSRef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esselIdentification(OCC=1)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9933"/>
                          </a:solidFill>
                          <a:latin typeface="Verdana"/>
                          <a:ea typeface="Times New Roman"/>
                        </a:rPr>
                        <a:t>IMONumber, MMSINumbe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CallSign, ShipName, 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VoyageInformation (OCC=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ShipCallI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LastPort, </a:t>
                      </a: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PortOfCal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PositionInPortOfCall, ETDfrom LastPort, ETAto PortOfCall, ETDfrom PortOfCall, NextPort, ETANextPo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DaysPre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ssibleAnchorage, PlannedOperations, PlannedWorks, ShipConfiguration, CargoVolumeNature, ConditionCargoBallastTank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hoursPreArrivalNotification Details)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BvoyagetowardsPortOfCall (Persons on Board Voyage towards the Port  of Call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ArrivalNotification Detail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Verdana"/>
                          <a:ea typeface="Times New Roman"/>
                        </a:rPr>
                        <a:t>ATA</a:t>
                      </a: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chorag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DepartureNotification Details(OCC=0,1)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AT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ZMATNotification InfoNonEUdepartures 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zmatOnBoardY/N, TypeOfHAZMATcargo (OCC=0,1), UrlDetails (OCC=0,1) or ContactDetails (OCC=0,1), CargoManifestUrlDetails (OCC=0,1) or CargoManifestContactDetails (OCC=0,1)</a:t>
                      </a: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Notification InfoEUdepartures(OCC=0,1)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b2b2b2"/>
                          </a:solidFill>
                          <a:latin typeface="Verdana"/>
                          <a:ea typeface="Times New Roman"/>
                        </a:rPr>
                        <a:t>HazmatOnBoardY/N, TypeOfHAZMATcargo (OCC=0,1), POBvoyagetowardsNextPort, UrlDetails (OCC=0,1) or ContactDetails (OCC=0,1), CargoManifestUrlDetails (OCC=0,1) or CargoManifestContactDetails (OCC=0,1)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407280" y="5829480"/>
            <a:ext cx="5094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582948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7280" y="6130800"/>
            <a:ext cx="509400" cy="2444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6130800"/>
            <a:ext cx="2233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t included at this stag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5829480"/>
            <a:ext cx="509760" cy="244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5800" y="582948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130800"/>
            <a:ext cx="509760" cy="24444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6130800"/>
            <a:ext cx="2233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hoice (Mandatory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5829480"/>
            <a:ext cx="509760" cy="244440"/>
          </a:xfrm>
          <a:prstGeom prst="rect">
            <a:avLst/>
          </a:prstGeom>
          <a:solidFill>
            <a:srgbClr val="0099ff"/>
          </a:solidFill>
          <a:ln w="0">
            <a:noFill/>
          </a:ln>
          <a:effectLst>
            <a:outerShdw dist="17819" dir="2700000" blurRad="0" rotWithShape="0">
              <a:srgbClr val="00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7800" y="5829480"/>
            <a:ext cx="1595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datory, depending on message contex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3:40:55Z</dcterms:created>
  <dc:creator>Paul Wilkins</dc:creator>
  <dc:description/>
  <dc:language>en-US</dc:language>
  <cp:lastModifiedBy>FIAMMA Lorenzo</cp:lastModifiedBy>
  <cp:lastPrinted>2004-03-26T09:05:49Z</cp:lastPrinted>
  <dcterms:modified xsi:type="dcterms:W3CDTF">2009-05-07T15:25:46Z</dcterms:modified>
  <cp:revision>358</cp:revision>
  <dc:subject/>
  <dc:title>Slide 1</dc:title>
</cp:coreProperties>
</file>