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908000" y="70920"/>
            <a:ext cx="71647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83120" y="37458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2564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65000" y="11430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8592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2564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65000" y="3745800"/>
            <a:ext cx="232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1440"/>
            <a:ext cx="716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3120" y="1143000"/>
            <a:ext cx="3520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85920" y="3745800"/>
            <a:ext cx="7215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Click to edit the outline text format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con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Third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our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ffe4a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Fif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ix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Seventh Outline Level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2512800"/>
          </a:xfrm>
          <a:prstGeom prst="rect">
            <a:avLst/>
          </a:prstGeom>
          <a:solidFill>
            <a:srgbClr val="003366">
              <a:alpha val="70000"/>
            </a:srgbClr>
          </a:solidFill>
          <a:ln w="28440">
            <a:solidFill>
              <a:srgbClr val="ff9900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afeSeaNet </a:t>
            </a:r>
            <a:endParaRPr b="1" lang="en-US" sz="6600" spc="-1" strike="noStrike">
              <a:solidFill>
                <a:srgbClr val="ffe4af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RF – EU Integration</a:t>
            </a:r>
            <a:endParaRPr b="1" lang="en-US" sz="66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0"/>
            <a:ext cx="6516720" cy="1268280"/>
          </a:xfrm>
          <a:prstGeom prst="rect">
            <a:avLst/>
          </a:prstGeom>
          <a:gradFill rotWithShape="0">
            <a:gsLst>
              <a:gs pos="0">
                <a:srgbClr val="336699">
                  <a:alpha val="0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RF and EU experts meeting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on a  SSN pilot project in the Baltic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23-24 July 2008, Saint-Petersburg</a:t>
            </a:r>
            <a:br>
              <a:rPr sz="2000"/>
            </a:b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365720"/>
            <a:ext cx="5724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2" marL="324720" indent="-54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man Modeev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lvl="2" marL="324720" indent="-54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as 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lvl="2" marL="324720" indent="-54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S Dept.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6148440" cy="49039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380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SS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plication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990720" y="1103400"/>
            <a:ext cx="6262560" cy="4994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1028880" y="1093680"/>
            <a:ext cx="6134040" cy="4907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971640" y="1074600"/>
            <a:ext cx="6324480" cy="5059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942840" y="1082520"/>
            <a:ext cx="6267600" cy="50133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28920" y="1085760"/>
            <a:ext cx="283356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Login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Administration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Port Notification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Alert Notification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Hazmat 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Automated Ship Notification, etc.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7307280" cy="6476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SSN and Russia’s Maritime I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ve and problem aspect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6" name=""/>
          <p:cNvSpPr/>
          <p:nvPr/>
        </p:nvSpPr>
        <p:spPr>
          <a:xfrm>
            <a:off x="371520" y="1209600"/>
            <a:ext cx="4587840" cy="487836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12717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Russia acts in line with EU ecological requirements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Political and economical issues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Shortening of period and cost of installation – due to the possibility of using of existing EU experience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Existence of COTS Product – SSN Server, compatible with Regional VTMIS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4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27" name=""/>
          <p:cNvSpPr/>
          <p:nvPr/>
        </p:nvSpPr>
        <p:spPr>
          <a:xfrm>
            <a:off x="5189400" y="1087560"/>
            <a:ext cx="35323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12717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Financing</a:t>
            </a:r>
            <a:br>
              <a:rPr sz="2400"/>
            </a:b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Level of security </a:t>
            </a:r>
            <a:br>
              <a:rPr sz="2400"/>
            </a:b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Who will put data into the system (e.g. port notification) ?</a:t>
            </a:r>
            <a:br>
              <a:rPr sz="2400"/>
            </a:b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Technical capacities of existing EU SSN servers </a:t>
            </a:r>
            <a:endParaRPr b="0" lang="en-US" sz="2400" spc="-1" strike="noStrike">
              <a:solidFill>
                <a:srgbClr val="00008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0320" y="70920"/>
            <a:ext cx="768204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development: BARENTS AND WHITE SEA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300720" y="1143000"/>
            <a:ext cx="266400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Kola Bay VTMIS :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5 x Radars 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3 x AIS BSs,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4 x GMDSS A1 BSs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System is prepared  for connection to Ais Helcom System via National Server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</p:txBody>
      </p:sp>
      <p:pic>
        <p:nvPicPr>
          <p:cNvPr id="330" name="Rectangle 16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3527280" cy="487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3924360" y="3213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>
            <a:off x="2700360" y="2133720"/>
            <a:ext cx="142920" cy="144360"/>
          </a:xfrm>
          <a:prstGeom prst="ellipse">
            <a:avLst/>
          </a:prstGeom>
          <a:solidFill>
            <a:srgbClr val="f12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33" name=""/>
          <p:cNvSpPr/>
          <p:nvPr/>
        </p:nvSpPr>
        <p:spPr>
          <a:xfrm>
            <a:off x="4067280" y="4437000"/>
            <a:ext cx="142920" cy="144360"/>
          </a:xfrm>
          <a:prstGeom prst="ellipse">
            <a:avLst/>
          </a:prstGeom>
          <a:solidFill>
            <a:srgbClr val="f12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34" name=""/>
          <p:cNvSpPr/>
          <p:nvPr/>
        </p:nvSpPr>
        <p:spPr>
          <a:xfrm>
            <a:off x="2771640" y="1773360"/>
            <a:ext cx="2305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rmansk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85680" indent="-8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ola Bay VTMIS)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85680" indent="-8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35" name=""/>
          <p:cNvSpPr/>
          <p:nvPr/>
        </p:nvSpPr>
        <p:spPr>
          <a:xfrm>
            <a:off x="2771640" y="4653000"/>
            <a:ext cx="2160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khangelsk VTS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88640" indent="-188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04480" y="70920"/>
            <a:ext cx="796788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development:  BLACK AND AZOV SEA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659640" y="1341360"/>
            <a:ext cx="2311200" cy="46087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"/>
              </a:rPr>
              <a:t>10 Base Stations (already connected to Regional Black/Azov AIS NET)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</p:txBody>
      </p:sp>
      <p:pic>
        <p:nvPicPr>
          <p:cNvPr id="338" name="Rectangle 16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532944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3203640" y="2997360"/>
            <a:ext cx="144360" cy="14436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0" name=""/>
          <p:cNvSpPr/>
          <p:nvPr/>
        </p:nvSpPr>
        <p:spPr>
          <a:xfrm>
            <a:off x="3132000" y="3141720"/>
            <a:ext cx="144720" cy="14292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1" name=""/>
          <p:cNvSpPr/>
          <p:nvPr/>
        </p:nvSpPr>
        <p:spPr>
          <a:xfrm>
            <a:off x="3492360" y="2997360"/>
            <a:ext cx="144720" cy="14256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2" name=""/>
          <p:cNvSpPr/>
          <p:nvPr/>
        </p:nvSpPr>
        <p:spPr>
          <a:xfrm>
            <a:off x="3780000" y="3573360"/>
            <a:ext cx="144360" cy="14292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3" name=""/>
          <p:cNvSpPr/>
          <p:nvPr/>
        </p:nvSpPr>
        <p:spPr>
          <a:xfrm>
            <a:off x="3851280" y="3500280"/>
            <a:ext cx="144360" cy="14292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005360"/>
            <a:ext cx="144360" cy="14292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5003640" y="4508640"/>
            <a:ext cx="144720" cy="14256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6" name=""/>
          <p:cNvSpPr/>
          <p:nvPr/>
        </p:nvSpPr>
        <p:spPr>
          <a:xfrm>
            <a:off x="4140360" y="1844640"/>
            <a:ext cx="144360" cy="14292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7" name=""/>
          <p:cNvSpPr/>
          <p:nvPr/>
        </p:nvSpPr>
        <p:spPr>
          <a:xfrm>
            <a:off x="4500720" y="1413000"/>
            <a:ext cx="144360" cy="142920"/>
          </a:xfrm>
          <a:prstGeom prst="flowChartConnector">
            <a:avLst/>
          </a:prstGeom>
          <a:solidFill>
            <a:srgbClr val="ff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8" name=""/>
          <p:cNvSpPr/>
          <p:nvPr/>
        </p:nvSpPr>
        <p:spPr>
          <a:xfrm>
            <a:off x="3492360" y="1773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49" name=""/>
          <p:cNvSpPr/>
          <p:nvPr/>
        </p:nvSpPr>
        <p:spPr>
          <a:xfrm>
            <a:off x="4284720" y="198900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4643280" y="141300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141300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ganrog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2" name=""/>
          <p:cNvSpPr/>
          <p:nvPr/>
        </p:nvSpPr>
        <p:spPr>
          <a:xfrm>
            <a:off x="4859280" y="162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1773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sk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4" name=""/>
          <p:cNvSpPr/>
          <p:nvPr/>
        </p:nvSpPr>
        <p:spPr>
          <a:xfrm>
            <a:off x="3492360" y="285264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ryuk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5" name=""/>
          <p:cNvSpPr/>
          <p:nvPr/>
        </p:nvSpPr>
        <p:spPr>
          <a:xfrm>
            <a:off x="5075280" y="1844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3068640"/>
            <a:ext cx="244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 Kavkaz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7" name=""/>
          <p:cNvSpPr/>
          <p:nvPr/>
        </p:nvSpPr>
        <p:spPr>
          <a:xfrm>
            <a:off x="4140360" y="3429000"/>
            <a:ext cx="18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orossiysk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393372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apse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59" name=""/>
          <p:cNvSpPr/>
          <p:nvPr/>
        </p:nvSpPr>
        <p:spPr>
          <a:xfrm>
            <a:off x="4859280" y="4365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hi</a:t>
            </a: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&amp; Azov Sea AIS NET Web Server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6200" y="5970240"/>
            <a:ext cx="6558120" cy="88740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  </a:t>
            </a:r>
            <a:r>
              <a:rPr b="1" lang="en-US" sz="2000" spc="-1" strike="noStrike">
                <a:solidFill>
                  <a:srgbClr val="ffe4af"/>
                </a:solidFill>
                <a:latin typeface="Arial Unicode MS"/>
              </a:rPr>
              <a:t>System is ready for real-time data exchange with neighbouring countries (similar to AIS-Helcom proj.)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276200" y="928800"/>
            <a:ext cx="76010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657840" y="1485720"/>
            <a:ext cx="2486160" cy="460188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WWW Server – operational since June 2008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176480" y="-360"/>
            <a:ext cx="7967520" cy="819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development: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CK AND AZOV SEAS - AIS NET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033560" y="1620720"/>
            <a:ext cx="50688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332000" y="1125000"/>
            <a:ext cx="7215120" cy="498348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4af"/>
                </a:solidFill>
                <a:latin typeface="Arial"/>
              </a:rPr>
              <a:t>Thank you </a:t>
            </a:r>
            <a:br>
              <a:rPr sz="4400"/>
            </a:br>
            <a:r>
              <a:rPr b="1" lang="en-US" sz="4400" spc="-1" strike="noStrike">
                <a:solidFill>
                  <a:srgbClr val="ffe4af"/>
                </a:solidFill>
                <a:latin typeface="Arial"/>
              </a:rPr>
              <a:t>for your attention </a:t>
            </a:r>
            <a:endParaRPr b="1" lang="en-US" sz="4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621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AL VTMIS GULF OF FINLAND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70" name="Rectangle 16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6553080" cy="453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77080" y="1413000"/>
            <a:ext cx="2160720" cy="4767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4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4af"/>
                </a:solidFill>
                <a:latin typeface="Arial"/>
              </a:rPr>
              <a:t>AIS Network (5 x AIS BSs)</a:t>
            </a: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e4af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1628640"/>
            <a:ext cx="2376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ysotsk VTS Centre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167760" indent="-16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S AIS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167760" indent="-16776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2492280"/>
            <a:ext cx="21589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morsk VTS Centre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119880" indent="-119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S AIS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119880" indent="-119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4932360" y="472428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trodvorets 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92520" indent="-9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VTS Centre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92520" indent="-9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S AIS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92520" indent="-92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4076640"/>
            <a:ext cx="3206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4149720"/>
            <a:ext cx="1655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gland Site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119880" indent="-119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S AIS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77" name=""/>
          <p:cNvSpPr/>
          <p:nvPr/>
        </p:nvSpPr>
        <p:spPr>
          <a:xfrm>
            <a:off x="3492360" y="5084640"/>
            <a:ext cx="1152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ki Site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  <a:p>
            <a:pPr marL="119880" indent="-119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S AIS</a:t>
            </a:r>
            <a:endParaRPr b="0" lang="en-US" sz="1400" spc="-1" strike="noStrike">
              <a:solidFill>
                <a:srgbClr val="00008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09280" y="70920"/>
            <a:ext cx="7363080" cy="7606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ssian Information Sources –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tform for National SSN server of Russia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09640" y="905040"/>
            <a:ext cx="7297920" cy="536256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 HELCOM Server and AIS Infrastructure</a:t>
            </a:r>
            <a:endParaRPr b="1" lang="en-US" sz="1600" spc="-1" strike="noStrike">
              <a:solidFill>
                <a:srgbClr val="ffe4af"/>
              </a:solidFill>
              <a:latin typeface="Arial Unicode MS"/>
            </a:endParaRPr>
          </a:p>
        </p:txBody>
      </p:sp>
      <p:graphicFrame>
        <p:nvGraphicFramePr>
          <p:cNvPr id="280" name="Rectangle 16"/>
          <p:cNvGraphicFramePr/>
          <p:nvPr/>
        </p:nvGraphicFramePr>
        <p:xfrm>
          <a:off x="1889280" y="1203480"/>
          <a:ext cx="6930720" cy="490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Rectangle 16" descr=""/>
                  <p:cNvPicPr/>
                  <p:nvPr/>
                </p:nvPicPr>
                <p:blipFill>
                  <a:blip r:embed="rId3">
                    <a:alphaModFix amt="70000"/>
                  </a:blip>
                  <a:stretch/>
                </p:blipFill>
                <p:spPr>
                  <a:xfrm>
                    <a:off x="1889280" y="1203480"/>
                    <a:ext cx="693072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35280" y="71280"/>
            <a:ext cx="7237440" cy="765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ssian Information Sources –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tform for National SSN server of Russia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372000" y="1488600"/>
            <a:ext cx="2592360" cy="450396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4a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AIS NET 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 Unicode MS"/>
              </a:rPr>
              <a:t>WWW Server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97000" y="1467000"/>
            <a:ext cx="5937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35280" y="70920"/>
            <a:ext cx="7237440" cy="693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SSN and Russia’s Maritime IS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8920" y="105264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4af"/>
                </a:solidFill>
                <a:uFillTx/>
                <a:latin typeface="Arial"/>
              </a:rPr>
              <a:t>Phase 1 (Pilot Project)</a:t>
            </a: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al (National) SSN server based on National HELCOM Server &amp; Regional VTMIS Gulf of Finland (St. Petersburg)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Field trials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nctionality (Maritime Data Exchange):</a:t>
            </a: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e4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Ship Notifications (AIS)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e4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Port Notifications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e4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Hazmat Notifications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e4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4af"/>
                </a:solidFill>
                <a:latin typeface="Arial"/>
              </a:rPr>
              <a:t>Alert Notifications</a:t>
            </a: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Rectangle 16"/>
          <p:cNvGraphicFramePr/>
          <p:nvPr/>
        </p:nvGraphicFramePr>
        <p:xfrm>
          <a:off x="1293840" y="1484280"/>
          <a:ext cx="7215120" cy="431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Rectangle 16" descr=""/>
                  <p:cNvPicPr/>
                  <p:nvPr/>
                </p:nvPicPr>
                <p:blipFill>
                  <a:blip r:embed="rId3">
                    <a:alphaModFix amt="70000"/>
                  </a:blip>
                  <a:stretch/>
                </p:blipFill>
                <p:spPr>
                  <a:xfrm>
                    <a:off x="1293840" y="1484280"/>
                    <a:ext cx="72151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859280" y="4076640"/>
            <a:ext cx="1460520" cy="57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08000" y="70920"/>
            <a:ext cx="716472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Proposed Structure for Pilot project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1" name=""/>
          <p:cNvSpPr/>
          <p:nvPr/>
        </p:nvSpPr>
        <p:spPr>
          <a:xfrm>
            <a:off x="1549440" y="5925960"/>
            <a:ext cx="45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22200" indent="-322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Unicode MS"/>
              </a:rPr>
              <a:t>To be installed</a:t>
            </a:r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427640" y="4723920"/>
            <a:ext cx="936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93" name=""/>
          <p:cNvSpPr/>
          <p:nvPr/>
        </p:nvSpPr>
        <p:spPr>
          <a:xfrm>
            <a:off x="4903920" y="3035160"/>
            <a:ext cx="1460520" cy="843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94" name=""/>
          <p:cNvSpPr/>
          <p:nvPr/>
        </p:nvSpPr>
        <p:spPr>
          <a:xfrm>
            <a:off x="5327640" y="8082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322200" indent="-322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To be updated</a:t>
            </a:r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865840" y="1665360"/>
            <a:ext cx="1882800" cy="1312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35280" y="71280"/>
            <a:ext cx="7237440" cy="765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SSN and Russia’s Maritime I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4af"/>
                </a:solidFill>
                <a:uFillTx/>
                <a:latin typeface="Arial"/>
              </a:rPr>
              <a:t>Phase 2</a:t>
            </a:r>
            <a:endParaRPr b="1" lang="en-US" sz="32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4af"/>
                </a:solidFill>
                <a:latin typeface="Arial"/>
              </a:rPr>
              <a:t>Establishing National SSN services and Certification with EMSA:</a:t>
            </a:r>
            <a:endParaRPr b="1" lang="en-US" sz="3200" spc="-1" strike="noStrike">
              <a:solidFill>
                <a:srgbClr val="ffe4af"/>
              </a:solidFill>
              <a:latin typeface="Arial Unicode MS"/>
            </a:endParaRPr>
          </a:p>
          <a:p>
            <a:pPr marL="361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Baltic Sea SSN Server (St. Petersburg)</a:t>
            </a: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61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Black Sea SSN Server (Tuapse)</a:t>
            </a: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6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8000" y="71280"/>
            <a:ext cx="7164720" cy="7653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SSN and Russia’s Maritime I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58920" y="1052640"/>
            <a:ext cx="7215120" cy="4983120"/>
          </a:xfrm>
          <a:prstGeom prst="rect">
            <a:avLst/>
          </a:prstGeom>
          <a:solidFill>
            <a:srgbClr val="003366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4af"/>
                </a:solidFill>
                <a:uFillTx/>
                <a:latin typeface="Arial"/>
              </a:rPr>
              <a:t>Phase 3</a:t>
            </a:r>
            <a:endParaRPr b="1" lang="en-US" sz="32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4af"/>
                </a:solidFill>
                <a:latin typeface="Arial"/>
              </a:rPr>
              <a:t>Establishing and Certification with EMSA:</a:t>
            </a:r>
            <a:endParaRPr b="1" lang="en-US" sz="32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olsky Gulf SSN Server (Murmansk)</a:t>
            </a: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 SSN Server (Moscow) if needed</a:t>
            </a: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e4a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7164360" cy="3808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99">
                  <a:alpha val="0"/>
                </a:srgbClr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 SSN and Russia’s Maritime IS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301" name="Rectangle 16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6172200" cy="4914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084720" y="4076640"/>
            <a:ext cx="1224000" cy="1203480"/>
          </a:xfrm>
          <a:prstGeom prst="donut">
            <a:avLst>
              <a:gd name="adj" fmla="val 2981"/>
            </a:avLst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03" name=""/>
          <p:cNvSpPr/>
          <p:nvPr/>
        </p:nvSpPr>
        <p:spPr>
          <a:xfrm rot="19637400">
            <a:off x="4716360" y="2565360"/>
            <a:ext cx="1224000" cy="1203480"/>
          </a:xfrm>
          <a:prstGeom prst="donut">
            <a:avLst>
              <a:gd name="adj" fmla="val 3384"/>
            </a:avLst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04" name=""/>
          <p:cNvSpPr/>
          <p:nvPr/>
        </p:nvSpPr>
        <p:spPr>
          <a:xfrm rot="21360000">
            <a:off x="5724360" y="1773360"/>
            <a:ext cx="1224000" cy="1203120"/>
          </a:xfrm>
          <a:prstGeom prst="donut">
            <a:avLst>
              <a:gd name="adj" fmla="val 2902"/>
            </a:avLst>
          </a:prstGeom>
          <a:solidFill>
            <a:srgbClr val="ff7c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 rot="1452600">
            <a:off x="6227280" y="3141360"/>
            <a:ext cx="649440" cy="647640"/>
          </a:xfrm>
          <a:prstGeom prst="donut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cxnSp>
        <p:nvCxnSpPr>
          <p:cNvPr id="306" name=""/>
          <p:cNvCxnSpPr>
            <a:stCxn id="303" idx="5"/>
            <a:endCxn id="305" idx="2"/>
          </p:cNvCxnSpPr>
          <p:nvPr/>
        </p:nvCxnSpPr>
        <p:spPr>
          <a:xfrm>
            <a:off x="5920920" y="3290400"/>
            <a:ext cx="335880" cy="40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"/>
          <p:cNvCxnSpPr>
            <a:stCxn id="304" idx="4"/>
            <a:endCxn id="305" idx="1"/>
          </p:cNvCxnSpPr>
          <p:nvPr/>
        </p:nvCxnSpPr>
        <p:spPr>
          <a:xfrm>
            <a:off x="6376680" y="2975040"/>
            <a:ext cx="59400" cy="186480"/>
          </a:xfrm>
          <a:prstGeom prst="straightConnector1">
            <a:avLst/>
          </a:prstGeom>
          <a:ln w="9360">
            <a:solidFill>
              <a:srgbClr val="f1271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2" idx="0"/>
            <a:endCxn id="305" idx="5"/>
          </p:cNvCxnSpPr>
          <p:nvPr/>
        </p:nvCxnSpPr>
        <p:spPr>
          <a:xfrm flipH="1" flipV="1">
            <a:off x="6667560" y="3766680"/>
            <a:ext cx="30600" cy="310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 rot="21007200">
            <a:off x="3780000" y="3860280"/>
            <a:ext cx="649080" cy="648000"/>
          </a:xfrm>
          <a:prstGeom prst="donut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000" spc="-1" strike="noStrike">
              <a:solidFill>
                <a:srgbClr val="00008c"/>
              </a:solidFill>
              <a:latin typeface="Arial Unicode MS"/>
            </a:endParaRPr>
          </a:p>
        </p:txBody>
      </p:sp>
      <p:cxnSp>
        <p:nvCxnSpPr>
          <p:cNvPr id="310" name=""/>
          <p:cNvCxnSpPr>
            <a:stCxn id="305" idx="3"/>
            <a:endCxn id="309" idx="6"/>
          </p:cNvCxnSpPr>
          <p:nvPr/>
        </p:nvCxnSpPr>
        <p:spPr>
          <a:xfrm flipH="1">
            <a:off x="4422240" y="3579840"/>
            <a:ext cx="1826640" cy="5500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508720" y="2133720"/>
            <a:ext cx="1730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 SSN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urmansk)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12" name=""/>
          <p:cNvSpPr/>
          <p:nvPr/>
        </p:nvSpPr>
        <p:spPr>
          <a:xfrm>
            <a:off x="4140360" y="2924280"/>
            <a:ext cx="1874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 SSN 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t.Petersburg)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4437000"/>
            <a:ext cx="1944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N 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uapse)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14" name=""/>
          <p:cNvSpPr/>
          <p:nvPr/>
        </p:nvSpPr>
        <p:spPr>
          <a:xfrm>
            <a:off x="6767640" y="3068640"/>
            <a:ext cx="2376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A, National SSN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scow)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3933720"/>
            <a:ext cx="2089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EU Index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  <a:p>
            <a:pPr marL="195480" indent="-195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uxemburg)</a:t>
            </a: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  <a:p>
            <a:pPr marL="195480" indent="-1954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c"/>
              </a:solidFill>
              <a:latin typeface="Arial Unicode MS"/>
            </a:endParaRPr>
          </a:p>
        </p:txBody>
      </p:sp>
      <p:cxnSp>
        <p:nvCxnSpPr>
          <p:cNvPr id="316" name=""/>
          <p:cNvCxnSpPr>
            <a:endCxn id="309" idx="7"/>
          </p:cNvCxnSpPr>
          <p:nvPr/>
        </p:nvCxnSpPr>
        <p:spPr>
          <a:xfrm flipH="1">
            <a:off x="4290120" y="3548160"/>
            <a:ext cx="621720" cy="372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7" name=""/>
          <p:cNvCxnSpPr>
            <a:endCxn id="309" idx="5"/>
          </p:cNvCxnSpPr>
          <p:nvPr/>
        </p:nvCxnSpPr>
        <p:spPr>
          <a:xfrm flipH="1" flipV="1">
            <a:off x="4368600" y="4369680"/>
            <a:ext cx="1784880" cy="3913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55:02Z</dcterms:created>
  <dc:creator>krasem</dc:creator>
  <dc:description/>
  <dc:language>en-US</dc:language>
  <cp:lastModifiedBy>kuzovinskiy</cp:lastModifiedBy>
  <dcterms:modified xsi:type="dcterms:W3CDTF">2008-07-25T12:01:20Z</dcterms:modified>
  <cp:revision>30</cp:revision>
  <dc:subject/>
  <dc:title>Слайд 1</dc:title>
</cp:coreProperties>
</file>