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24B-2D3D-42B0-B866-C65213FF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7B2-E47D-4F0D-982F-F3259B4A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329-40DE-4AA1-963D-C4063AD2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16E-1761-4D80-B6C3-17F6679F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CDA-F95C-4961-B6C0-BAFC94EF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E16-8D56-4A81-A849-F8FD0F62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11B-E047-4A59-8E5D-F85DBDA0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7F0-7421-4A9C-B72F-AFE2B918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931-0553-4065-B634-2F101272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C9D-6B78-415D-AD8C-1FB78EB5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DB8-EA4D-4DCE-B2E5-F872946F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487-3F0C-48F3-9853-9AD9619E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EF1B-CF27-4E86-AB28-F12E7431E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579600"/>
          <a:ext cx="18288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79600"/>
                    <a:ext cx="18288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514600" y="8380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9494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8400" y="28080"/>
            <a:ext cx="7453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ticle 22 of Directive 2002/59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vant to the publication is Article 22 of the Directive 2002/5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b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 Each Member State shall designate the competent authorit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 authorities and coastal authorities to which not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ired by this Directive must be m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. Each Member State shall ensure that the shipping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properly informed and regularly updated, notably 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utical publications, regarding the author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d stations designated pursuant to paragraph 1, incl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re appropriate the geographical area for which they are compe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d the procedures laid down for notifying the information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y this Direc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C22-32E5-42CC-B21E-1AEF94209CE3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85800" y="579600"/>
          <a:ext cx="18288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79600"/>
                    <a:ext cx="18288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590920" y="8380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0400" y="1552680"/>
            <a:ext cx="86817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3. Member States shall send to the Commission a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 the authorities and stations they designate pursuant to paragraph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 well as any updating thereof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the “coastal station” is included in paragraph (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rticle 3 of the same Directive which read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n) “coastal station” means any of the following, designated by 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rsuant to this Directive : a Vessel traffic service; a shore-based 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ponsible for a mandatory reporting system approved by the IMO; or a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ponsible for coordinating search and rescue operations or operations to tack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lution at s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6B1-EE09-4FB1-BCE6-9A295A9C8867}" type="slidenum">
              <a:t>2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579600"/>
          <a:ext cx="18288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79600"/>
                    <a:ext cx="18288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590920" y="8380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4290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5720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8920" y="-318240"/>
            <a:ext cx="779904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ove requirements mandates each Member States t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esignate the competent authorities, port authorities and coast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which the notification required by this Directive must be m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uthorities are the following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Competent Authorities (NCA) of SafeSe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 authorities where vessel have to notify the SafeSe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 and Hazmat notifications” and which act as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tent Authorities according to SafeSe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ssel Traffic Services (VTS) and Manda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ing Systems (MRS) adopted by I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Search and Rescue Centres and Sub-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centres responsible for operations to tack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lution at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99B-1CD0-4F8B-B9AF-FBA4AC48A261}" type="slidenum">
              <a:t>3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5800" y="579600"/>
          <a:ext cx="18288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79600"/>
                    <a:ext cx="18288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590920" y="8380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0481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5720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8800" y="2772360"/>
            <a:ext cx="638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nsure that the shipping industry is properly in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regularly updated, via nautical publications, regar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ve mentioned st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788-B305-401F-BC01-9E0C7DA052B2}" type="slidenum">
              <a:t>4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85800" y="579600"/>
          <a:ext cx="18288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79600"/>
                    <a:ext cx="18288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90920" y="8380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4290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5720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3080" y="1857240"/>
            <a:ext cx="8097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ticle 16 of the Directive 2002/59 and the Port 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ilities Directive 2000/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he Article 16 of Directive 2002/59 and the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ption Facilities Directive 2000/59, speci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p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ed more closely by the national competent Auth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they have been involved in certain events. Thus SafeSe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deal with information provided by the maritime authorities regarding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66B-0735-4EAD-8AFB-A3F50651F6C9}" type="slidenum">
              <a:t>5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33720" y="3049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8991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0"/>
          <a:ext cx="19810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981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8640" y="1552320"/>
            <a:ext cx="8366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s having left a port in breach of rules concerning th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port reception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 involved in incidents or accidents at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essage type Situation Report – SITREP or Deficiency Report – DEFR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lution incident (message type POLR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 in breach of COLREG or navigation related reg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 in breach of mandatory reporting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 which has been refused access to a port of the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ccordance with the Directive 95/21/EC on Port Stat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vant security information (e.g. ship security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B56-4AB5-4578-A82E-C946602EC5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685800" y="579600"/>
          <a:ext cx="18288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79600"/>
                    <a:ext cx="18288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590920" y="8380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60020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01040" y="1704960"/>
            <a:ext cx="6541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afeSeaNet Categories of 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 to the above requirements it becomes evi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different types of actors participate in the system such a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Competent Authorities (N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TS – MRS – AIS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CC and R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 Authorities (L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lution survey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 State Control Auth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Author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241-8376-45D5-A825-CBACD8BDF3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685800" y="579600"/>
          <a:ext cx="18288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79600"/>
                    <a:ext cx="18288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590920" y="8380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810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84960" y="2772360"/>
            <a:ext cx="717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cess rights have been defined during the previous meeting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 since now we are closer to the operational capability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ecific users of each Member State have to be clearly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name and address as well as their access righ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F51-B715-4203-834A-9B8954AD63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5:02:51Z</dcterms:created>
  <dc:creator>blancmy</dc:creator>
  <dc:description/>
  <dc:language>en-US</dc:language>
  <cp:lastModifiedBy>Lazaros Aichmalotidis</cp:lastModifiedBy>
  <cp:lastPrinted>2004-05-04T11:59:18Z</cp:lastPrinted>
  <dcterms:modified xsi:type="dcterms:W3CDTF">2004-10-19T14:46:42Z</dcterms:modified>
  <cp:revision>37</cp:revision>
  <dc:subject/>
  <dc:title>No Slide Title</dc:title>
</cp:coreProperties>
</file>