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CF4-E1CE-495A-9161-8F898E5D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A7F-979B-4BC1-99D8-8C05D71D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438-006D-438D-AA15-400649FA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CC9-FCAC-4EA4-A9BC-C6723FFB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4A25-DE0D-465E-B412-CFC44EB8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B1EE-87D4-49F0-AE55-73820BD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DAC-29D2-4ECD-A4D7-40365F7F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600-0342-4209-B7DD-833B6A1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BF86-8121-4750-8F42-F1F3CAAE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FFD-C96B-4E28-BEE2-86E6FE03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13A3-38C2-4461-9899-FF2DAD69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C32-8534-42E0-8483-AA050EC5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778B-7F72-4853-BA37-A21545C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30E-B43E-4396-A9E2-58EF1C1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658-3EB6-4F24-B209-08A6D10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F3CC-3E4F-481B-A57C-C88F661B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8D03-DB1E-4ADA-979A-9054C923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987D-B41D-4FF9-AA8F-1E17C454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043C-016B-4EC2-ACB0-C2F690A2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9AC4-4857-47B7-BA02-82A8122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B0B3-4770-4C86-9432-D480F49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4E8D-7548-4F06-9A14-FABA611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33C-424D-479F-8CFC-D0FB213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6F10-818B-4925-8780-8906CA6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A602-2433-4949-82D8-7C0CB15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41FA-3BFD-4345-9A35-AA46612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F8EE-C1AF-48D4-9C8B-CE2F6C8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5FE0-C989-4797-B90B-536A0FC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9F86-FEA2-47AC-9CDC-93F12588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8339-96CA-4DF1-8361-1412CED8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938-0063-4D98-B7D3-EF3E3FE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328-82D2-469B-941F-F7DB00A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6C8-73D5-4DD5-AA83-4A15DA5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20-9A44-4C1A-8F4A-13A8BC5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E8E-4805-42D9-88C8-81C9B27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1DB-0AA4-4433-B3D0-BE15540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243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347-3689-4A78-8D94-5A06F156C6F4}" type="slidenum">
              <a:rPr b="0" lang="en-US" sz="1400" spc="-1" strike="noStrike">
                <a:solidFill>
                  <a:srgbClr val="01243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494E-9D07-4C93-9E7E-203F97C9EE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243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43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243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243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7C4-0FD7-41D5-AAC3-3501C8C2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ffff"/>
                </a:solidFill>
                <a:latin typeface="Arial"/>
              </a:rPr>
              <a:t>SafeSeaNet i Norway </a:t>
            </a:r>
            <a:br>
              <a:rPr sz="4000"/>
            </a:br>
            <a:r>
              <a:rPr b="1" lang="nb-NO" sz="4000" spc="-1" strike="noStrike">
                <a:solidFill>
                  <a:srgbClr val="ffffff"/>
                </a:solidFill>
                <a:latin typeface="Arial"/>
              </a:rPr>
              <a:t>– a short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Arial"/>
              </a:rPr>
              <a:t>Director John Erik H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Arial"/>
              </a:rPr>
              <a:t>Chief Engineer Reidar Kjennbakken</a:t>
            </a:r>
            <a:br>
              <a:rPr sz="2400"/>
            </a:b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Arial"/>
              </a:rPr>
              <a:t>Norwegian Coastal 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6696000" cy="5069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243d"/>
                </a:solidFill>
                <a:latin typeface="Arial"/>
              </a:rPr>
              <a:t>Notification list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981000"/>
            <a:ext cx="1800360" cy="719280"/>
          </a:xfrm>
          <a:prstGeom prst="wedgeRoundRectCallout">
            <a:avLst>
              <a:gd name="adj1" fmla="val -192416"/>
              <a:gd name="adj2" fmla="val 19017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hoosing this tag gives you your list of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01243d"/>
                </a:solidFill>
                <a:latin typeface="Arial"/>
              </a:rPr>
              <a:t>Hazmat statistics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35280" y="2347920"/>
            <a:ext cx="7080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858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The next step – </a:t>
            </a:r>
            <a:br>
              <a:rPr sz="4000"/>
            </a:b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Barents VTMIS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The SafeSeaNet philosophy included AIS data will be basis for the Norwegian – Russian cooperation in the Barents area for establishing a bilateral monitoring and pre-voyage reporting system.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32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zation</a:t>
            </a: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Russian-Norwegian Cooperation for Maritime Safety and Oil Spill Prevention in the Barents area</a:t>
            </a: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3760" y="4232160"/>
            <a:ext cx="499428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Captain Mikhail Ivanovich Susl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Director General Kirsten Ullbæk Selvi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5300640"/>
            <a:ext cx="4340160" cy="13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Monitoring and pre-voyage reporting syste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Director General Deputy Valery I. Golovko</a:t>
            </a:r>
            <a:br>
              <a:rPr sz="1700"/>
            </a:b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Director John Erik Ha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5300640"/>
            <a:ext cx="3965760" cy="13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Oil spill prevention and respons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Mr. Vladimir Ivanovich Kare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nb-NO" sz="1700" spc="-1" strike="noStrike">
                <a:solidFill>
                  <a:srgbClr val="000000"/>
                </a:solidFill>
                <a:latin typeface="Arial"/>
              </a:rPr>
              <a:t>Director Tor Christian Sle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4080" y="48736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65760" y="4873680"/>
            <a:ext cx="0" cy="44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716280"/>
            <a:ext cx="3078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700" spc="-1" strike="noStrike">
                <a:solidFill>
                  <a:srgbClr val="ffffff"/>
                </a:solidFill>
                <a:latin typeface="Arial"/>
              </a:rPr>
              <a:t>Steering committe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800" y="4624560"/>
            <a:ext cx="304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700" spc="-1" strike="noStrike">
                <a:solidFill>
                  <a:srgbClr val="ffffff"/>
                </a:solidFill>
                <a:latin typeface="Arial"/>
              </a:rPr>
              <a:t>Project management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800" spc="-1" strike="noStrike">
                <a:solidFill>
                  <a:srgbClr val="01243d"/>
                </a:solidFill>
                <a:latin typeface="Arial"/>
                <a:ea typeface="Times New Roman"/>
              </a:rPr>
              <a:t>Mandate of the steering committee</a:t>
            </a:r>
            <a:r>
              <a:rPr b="1" lang="nb-NO" sz="4400" spc="-1" strike="noStrike">
                <a:solidFill>
                  <a:srgbClr val="01243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152388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elaborate an agreement between The Russian Federation and Norway on monitoring and pre-voyage reporting systems for oil transports and towing operations in the Barents area.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prepare a revision of the existing agreement of cooperation on oil spill prevention and response. 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promote cooperation within regional and local authorities in the Barents area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consider other ongoing processes on similar topics in waters adjacent to the Barents area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consider other measures to further bilateral cooperation within the scope of the common understanding, including initiating new projects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43d"/>
                </a:solidFill>
                <a:latin typeface="Arial"/>
                <a:ea typeface="Times New Roman"/>
              </a:rPr>
              <a:t>To consider the reports of the project groups</a:t>
            </a: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76720" y="333360"/>
            <a:ext cx="3448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1258560" y="1484280"/>
            <a:ext cx="576108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635280" y="1341360"/>
            <a:ext cx="3384720" cy="295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284720" y="907920"/>
            <a:ext cx="2735280" cy="21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858000" cy="13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SafeSeaNet in Norway -</a:t>
            </a:r>
            <a:br>
              <a:rPr sz="4000"/>
            </a:b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5 easy steps</a:t>
            </a: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(included Hazmat)</a:t>
            </a: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7400" y="2557080"/>
            <a:ext cx="68580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1: Add Hazmat registration 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2: Choose Ship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3: Port notification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4: Hazmat notification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5: Confirmation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16000" y="71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35280" y="6165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08a"/>
                </a:solidFill>
                <a:latin typeface="Arial"/>
              </a:rPr>
              <a:t>Joh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333000"/>
            <a:ext cx="685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243d"/>
                </a:solidFill>
                <a:latin typeface="Arial"/>
              </a:rPr>
              <a:t>Picture from SP Shipbase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20148" t="16641" r="26550" b="16558"/>
          <a:stretch/>
        </p:blipFill>
        <p:spPr>
          <a:xfrm>
            <a:off x="1835280" y="968400"/>
            <a:ext cx="65530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858000" cy="2865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243d"/>
                </a:solidFill>
                <a:latin typeface="Arial"/>
              </a:rPr>
              <a:t>SSN National WEB Interface </a:t>
            </a:r>
            <a:endParaRPr b="1" lang="en-US" sz="36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3141720"/>
            <a:ext cx="1150920" cy="360360"/>
          </a:xfrm>
          <a:prstGeom prst="wedgeRoundRectCallout">
            <a:avLst>
              <a:gd name="adj1" fmla="val -123518"/>
              <a:gd name="adj2" fmla="val 8436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3789360"/>
            <a:ext cx="1511280" cy="289080"/>
          </a:xfrm>
          <a:prstGeom prst="wedgeRoundRectCallout">
            <a:avLst>
              <a:gd name="adj1" fmla="val -105671"/>
              <a:gd name="adj2" fmla="val -3021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ontact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4508640"/>
            <a:ext cx="1366920" cy="288720"/>
          </a:xfrm>
          <a:prstGeom prst="wedgeRoundRectCallout">
            <a:avLst>
              <a:gd name="adj1" fmla="val -114342"/>
              <a:gd name="adj2" fmla="val -19065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849400" y="2054160"/>
            <a:ext cx="5828040" cy="3246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600"/>
            </a:br>
            <a:r>
              <a:rPr b="1" lang="en-US" sz="2800" spc="-1" strike="noStrike">
                <a:solidFill>
                  <a:srgbClr val="01243d"/>
                </a:solidFill>
                <a:latin typeface="Arial"/>
              </a:rPr>
              <a:t>Step 1: Add Hazmat registration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284640"/>
            <a:ext cx="136836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10800000">
            <a:off x="1835280" y="3357720"/>
            <a:ext cx="1224000" cy="576000"/>
          </a:xfrm>
          <a:prstGeom prst="wedgeRoundRectCallout">
            <a:avLst>
              <a:gd name="adj1" fmla="val -69717"/>
              <a:gd name="adj2" fmla="val 12162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Default mar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4797360"/>
            <a:ext cx="1152360" cy="1224000"/>
          </a:xfrm>
          <a:prstGeom prst="wedgeRoundRectCallout">
            <a:avLst>
              <a:gd name="adj1" fmla="val 77273"/>
              <a:gd name="adj2" fmla="val -66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To be marked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if 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HAZMAT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c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987640" y="2130480"/>
            <a:ext cx="5640480" cy="2787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600"/>
            </a:br>
            <a:r>
              <a:rPr b="1" lang="en-US" sz="2800" spc="-1" strike="noStrike">
                <a:solidFill>
                  <a:srgbClr val="01243d"/>
                </a:solidFill>
                <a:latin typeface="Arial"/>
              </a:rPr>
              <a:t>Step 2: Choose Ship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2492280"/>
            <a:ext cx="1368360" cy="935280"/>
          </a:xfrm>
          <a:prstGeom prst="wedgeRoundRectCallout">
            <a:avLst>
              <a:gd name="adj1" fmla="val 54060"/>
              <a:gd name="adj2" fmla="val 1466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Search icon for ship</a:t>
            </a:r>
            <a:br>
              <a:rPr sz="1400"/>
            </a:b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Search for ship or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5516640"/>
            <a:ext cx="1800360" cy="503280"/>
          </a:xfrm>
          <a:prstGeom prst="wedgeRoundRectCallout">
            <a:avLst>
              <a:gd name="adj1" fmla="val 75046"/>
              <a:gd name="adj2" fmla="val -19984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When data given go to 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1684440"/>
            <a:ext cx="5279760" cy="5173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600"/>
            </a:b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Step 3: Port notification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3213000"/>
            <a:ext cx="1224000" cy="792360"/>
          </a:xfrm>
          <a:prstGeom prst="wedgeRoundRectCallout">
            <a:avLst>
              <a:gd name="adj1" fmla="val 64009"/>
              <a:gd name="adj2" fmla="val 9568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Search for port code or type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573360"/>
            <a:ext cx="1117800" cy="1225800"/>
          </a:xfrm>
          <a:prstGeom prst="wedgeRoundRectCallout">
            <a:avLst>
              <a:gd name="adj1" fmla="val -162782"/>
              <a:gd name="adj2" fmla="val 6074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The directive expect ETD from arriving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40720" y="5229360"/>
            <a:ext cx="1116000" cy="720720"/>
          </a:xfrm>
          <a:prstGeom prst="wedgeRoundRectCallout">
            <a:avLst>
              <a:gd name="adj1" fmla="val -66500"/>
              <a:gd name="adj2" fmla="val 14779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When data given go to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5734080"/>
            <a:ext cx="1224000" cy="576360"/>
          </a:xfrm>
          <a:prstGeom prst="wedgeRoundRectCallout">
            <a:avLst>
              <a:gd name="adj1" fmla="val 133268"/>
              <a:gd name="adj2" fmla="val -4724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ISPS Certif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66920" y="1700280"/>
            <a:ext cx="5761080" cy="5021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200"/>
            </a:b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tep 4: Hazmat notification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5229360"/>
            <a:ext cx="1692360" cy="647640"/>
          </a:xfrm>
          <a:prstGeom prst="wedgeRoundRectCallout">
            <a:avLst>
              <a:gd name="adj1" fmla="val 55157"/>
              <a:gd name="adj2" fmla="val -169851"/>
              <a:gd name="adj3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Search for Cargo type or type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29600" y="3789360"/>
            <a:ext cx="914400" cy="609480"/>
          </a:xfrm>
          <a:prstGeom prst="wedgeRoundRectCallout">
            <a:avLst>
              <a:gd name="adj1" fmla="val -168055"/>
              <a:gd name="adj2" fmla="val 71979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3716280"/>
            <a:ext cx="1224000" cy="576360"/>
          </a:xfrm>
          <a:prstGeom prst="wedgeRoundRectCallout">
            <a:avLst>
              <a:gd name="adj1" fmla="val -102527"/>
              <a:gd name="adj2" fmla="val 22162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lick for add to cargo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4653000"/>
            <a:ext cx="1225440" cy="647640"/>
          </a:xfrm>
          <a:prstGeom prst="wedgeRoundRectCallout">
            <a:avLst>
              <a:gd name="adj1" fmla="val -107902"/>
              <a:gd name="adj2" fmla="val 14117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List of carried c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5516640"/>
            <a:ext cx="1225440" cy="718920"/>
          </a:xfrm>
          <a:prstGeom prst="wedgeRoundRectCallout">
            <a:avLst>
              <a:gd name="adj1" fmla="val -79532"/>
              <a:gd name="adj2" fmla="val 6655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ompleted cargo list, go to next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56000" y="1654200"/>
            <a:ext cx="5102280" cy="5102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600"/>
            </a:br>
            <a:r>
              <a:rPr b="1" lang="en-GB" sz="2800" spc="-1" strike="noStrike">
                <a:solidFill>
                  <a:srgbClr val="01243d"/>
                </a:solidFill>
                <a:latin typeface="Arial"/>
              </a:rPr>
              <a:t>Step 5: Confirmation</a:t>
            </a:r>
            <a:endParaRPr b="1" lang="en-US" sz="28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4653000"/>
            <a:ext cx="1224000" cy="792000"/>
          </a:xfrm>
          <a:prstGeom prst="wedgeRoundRectCallout">
            <a:avLst>
              <a:gd name="adj1" fmla="val -75162"/>
              <a:gd name="adj2" fmla="val 18707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ontrol and confirm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4:44:05Z</dcterms:created>
  <dc:creator> Reidar Kjennbakken</dc:creator>
  <dc:description/>
  <dc:language>en-US</dc:language>
  <cp:lastModifiedBy>Reidar Kjennbakken</cp:lastModifiedBy>
  <dcterms:modified xsi:type="dcterms:W3CDTF">2004-10-25T10:59:35Z</dcterms:modified>
  <cp:revision>36</cp:revision>
  <dc:subject/>
  <dc:title>Nasjonal SafeSeaNet løsning</dc:title>
</cp:coreProperties>
</file>