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png" ContentType="image/png"/>
  <Override PartName="/ppt/media/image4.wmf" ContentType="image/x-wmf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6.gif" ContentType="image/gif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53225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99C-EB33-474C-9C7A-8BA8DE2A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11E-6215-45EA-8F5C-8ADC260A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17B-D7FC-42B6-9417-15C74722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867-284C-40A2-B024-5703D068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D71-FE68-4D34-A0D9-66F5E3B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EC3-0FF0-459C-84D6-8B3D16E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A1D-AD23-4ACC-B3FD-A24BBA1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5E1-9FA6-4B74-8F2B-565D63DC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010-9E69-467A-86AB-AD7F7D80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096-CCE3-4F39-9415-90E0E041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63F-8B15-41BC-A223-5B9F6C19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D11-D371-4B1B-A11A-56616D9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1243-0615-46B3-BA21-6210E6CD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5.wmf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7.wmf"/><Relationship Id="rId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2081160"/>
            <a:ext cx="45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312920"/>
            <a:ext cx="5832360" cy="3660120"/>
          </a:xfrm>
          <a:prstGeom prst="rect">
            <a:avLst/>
          </a:prstGeom>
          <a:solidFill>
            <a:srgbClr val="f3faff"/>
          </a:solidFill>
          <a:ln w="57240">
            <a:solidFill>
              <a:srgbClr val="244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0" spc="-1" strike="noStrike">
                <a:solidFill>
                  <a:srgbClr val="274e75"/>
                </a:solidFill>
                <a:latin typeface="Arial Black"/>
              </a:rPr>
              <a:t>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0" spc="-1" strike="noStrike">
                <a:solidFill>
                  <a:srgbClr val="274e75"/>
                </a:solidFill>
                <a:latin typeface="Arial Black"/>
              </a:rPr>
              <a:t>SafeSeaNe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0" spc="-1" strike="noStrike">
                <a:solidFill>
                  <a:srgbClr val="274e75"/>
                </a:solidFill>
                <a:latin typeface="Arial Black"/>
              </a:rPr>
              <a:t>Proj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5486400"/>
            <a:ext cx="7848720" cy="990720"/>
          </a:xfrm>
          <a:prstGeom prst="rect">
            <a:avLst/>
          </a:prstGeom>
          <a:noFill/>
          <a:ln w="9360">
            <a:solidFill>
              <a:srgbClr val="00007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esented by : Yves H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0 Octo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Helpdesk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676520"/>
            <a:ext cx="8001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Helpdesk Suppor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oups a set of activities for the production environment such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ealing with incoming calls for support and clarification. It will be acting as gateway between Member States, EMSA and the EC Data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cording each helpdesk call by capturing  a clear description of the issue at 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eal with system failures (working and non-working days), outages for maintenance (</a:t>
            </a:r>
            <a:r>
              <a:rPr b="0" lang="nl-BE" sz="1800" spc="-1" strike="noStrike">
                <a:solidFill>
                  <a:srgbClr val="ff3300"/>
                </a:solidFill>
                <a:latin typeface="Tahoma"/>
              </a:rPr>
              <a:t>ongoing activity: 24h/day – 7days/week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erform diagnostics to minimize intervention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ct as liaison between the different stakeholders (Member Stat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rovide weekly status reports to E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Helpdesk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76520"/>
            <a:ext cx="8001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Helpdesk Suppor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following level of severity is recogni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3333cc"/>
                </a:solidFill>
                <a:uFillTx/>
                <a:latin typeface="Tahoma"/>
              </a:rPr>
              <a:t>Critical:</a:t>
            </a:r>
            <a:r>
              <a:rPr b="0" lang="nl-BE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perational problem, SafeSeaNet server down, services down, network access problems, Member States no longer able to send or submit queries to the SafeSeaNet central system.</a:t>
            </a:r>
            <a:r>
              <a:rPr b="0" lang="nl-BE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f a critical request is received, it MUST be handled (intervention time) within 4 working hours after receipt (24x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3333cc"/>
                </a:solidFill>
                <a:uFillTx/>
                <a:latin typeface="Tahoma"/>
              </a:rPr>
              <a:t>High:</a:t>
            </a:r>
            <a:r>
              <a:rPr b="0" lang="nl-BE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roblems severely hindering the Member States in carrying out their tasks (e.g. Certain functionalities are no longer supported by SafeSeaNet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f a high-level request is received it MUST be handled within 8 hours after rece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Helpdesk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76520"/>
            <a:ext cx="8001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Helpdesk Suppor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following level of severity is recogni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3333cc"/>
                </a:solidFill>
                <a:uFillTx/>
                <a:latin typeface="Tahoma"/>
              </a:rPr>
              <a:t>Low:</a:t>
            </a:r>
            <a:r>
              <a:rPr b="0" lang="nl-BE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mall problems with working functionalities, problems causing minor inconveniences to us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f a low-level request is received it MUST be handled within 3 working days after recei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Helpdesk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676520"/>
            <a:ext cx="8001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Helpdesk Suppor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following level of severity is recogni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3333cc"/>
                </a:solidFill>
                <a:uFillTx/>
                <a:latin typeface="Tahoma"/>
              </a:rPr>
              <a:t>Low:</a:t>
            </a:r>
            <a:r>
              <a:rPr b="0" lang="nl-BE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mall problems with working functionalities, problems causing minor inconveniences to us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f a low-level request is received it MUST be handled within 3 working days after recei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Helpdesk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052720"/>
            <a:ext cx="8001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Information required from 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 case of disaster with the SafeSeaNet application in production (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own, system’s unavailable, ...), the helpdesk support team must infor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mber States about this major issue as soon as possible. To this end,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ollowing information is required from the Member Stat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99"/>
                </a:solidFill>
                <a:latin typeface="Tahoma"/>
              </a:rPr>
              <a:t>Name of the authority           (one authority per 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99"/>
                </a:solidFill>
                <a:latin typeface="Tahoma"/>
              </a:rPr>
              <a:t>List of people to be in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99"/>
                </a:solidFill>
                <a:latin typeface="Tahoma"/>
              </a:rPr>
              <a:t>Phon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99"/>
                </a:solidFill>
                <a:latin typeface="Tahoma"/>
              </a:rPr>
              <a:t>Fax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99"/>
                </a:solidFill>
                <a:latin typeface="Tahoma"/>
              </a:rPr>
              <a:t>Global email address of maritime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76520" y="2971800"/>
            <a:ext cx="7010280" cy="760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133720"/>
            <a:ext cx="990720" cy="2971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43200" y="2286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43200" y="304812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43200" y="380988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03364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afeSeaNet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3200" y="4572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06400" y="2819520"/>
            <a:ext cx="6523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Extension of the test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59040" y="4319640"/>
            <a:ext cx="6522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63384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est Evaluation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ew SafeSeaNet Roadmap – Test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2057400"/>
          <a:ext cx="868680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5740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Roadmap – Test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981080"/>
            <a:ext cx="80010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Extension of the testing phase: Test 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Within the overall timeframe of Oct 04 and late Mar 05, two types of tests are anticip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Normal Test Phase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Oct 04 till late Mar 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Pilot Test Phase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to be determined by EM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Within each Test Phase we define a number of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Test Cycles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Each test cycle corresponds with a fixed amount of working/testing days (initial test cycles of 5 working days, could be extended to 6-7 days during pilot tes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Requirements fo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640" y="195588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First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3440" y="2482920"/>
            <a:ext cx="39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cal testing of implement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arge set func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657600"/>
            <a:ext cx="40384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3962520"/>
            <a:ext cx="838080" cy="533160"/>
          </a:xfrm>
          <a:prstGeom prst="flowChartMagneticDisk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4952880"/>
            <a:ext cx="106668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42080" y="37479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mb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/>
          <p:nvPr/>
        </p:nvCxnSpPr>
        <p:spPr>
          <a:xfrm>
            <a:off x="2819160" y="52574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/>
          <p:nvPr/>
        </p:nvCxnSpPr>
        <p:spPr>
          <a:xfrm>
            <a:off x="2095200" y="4495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6324480" y="3657600"/>
            <a:ext cx="23623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495288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entral 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495288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267080"/>
            <a:ext cx="1447920" cy="457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S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76640" y="3747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afeSe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Requirements fo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6280" y="1817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231444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itial testing between a member state and the central SafeSeaNet system by exchanging predefined Xml messages and as such first transaction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809880"/>
            <a:ext cx="40384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3809880"/>
            <a:ext cx="2362320" cy="2514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4114800"/>
            <a:ext cx="838080" cy="533520"/>
          </a:xfrm>
          <a:prstGeom prst="flowChartMagneticDisk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/>
          <p:nvPr/>
        </p:nvCxnSpPr>
        <p:spPr>
          <a:xfrm>
            <a:off x="2095200" y="4648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/>
          <p:nvPr/>
        </p:nvCxnSpPr>
        <p:spPr>
          <a:xfrm>
            <a:off x="2819160" y="54860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2971800" y="5105520"/>
            <a:ext cx="106668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5257800"/>
            <a:ext cx="2133360" cy="304920"/>
          </a:xfrm>
          <a:prstGeom prst="leftRightArrow">
            <a:avLst>
              <a:gd name="adj1" fmla="val 50000"/>
              <a:gd name="adj2" fmla="val 13928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41600" y="4967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66120" y="39006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mb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510552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4419720"/>
            <a:ext cx="1447920" cy="457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S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510552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entral 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6640" y="39006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afeSe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2133720"/>
            <a:ext cx="7010280" cy="760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133720"/>
            <a:ext cx="990720" cy="2971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3200" y="2286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43200" y="304812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43200" y="380988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03364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SafeSeaNet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43200" y="4572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06400" y="2819520"/>
            <a:ext cx="6523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Extension of the test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59040" y="4319640"/>
            <a:ext cx="6522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6400" y="3557520"/>
            <a:ext cx="6523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est Evaluation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Requirements fo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4114800"/>
            <a:ext cx="40384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4114800"/>
            <a:ext cx="2362320" cy="2514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4419720"/>
            <a:ext cx="838080" cy="533160"/>
          </a:xfrm>
          <a:prstGeom prst="flowChartMagneticDisk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2095200" y="4952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/>
          <p:nvPr/>
        </p:nvCxnSpPr>
        <p:spPr>
          <a:xfrm>
            <a:off x="2819160" y="579096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2971800" y="5410080"/>
            <a:ext cx="106668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81680" y="541008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entral T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5562720"/>
            <a:ext cx="2133360" cy="304560"/>
          </a:xfrm>
          <a:prstGeom prst="leftRightArrow">
            <a:avLst>
              <a:gd name="adj1" fmla="val 50000"/>
              <a:gd name="adj2" fmla="val 13944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0" y="5334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5120" y="17413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hir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22264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esting of transactions – complete coverage of business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1600200"/>
            <a:ext cx="388620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828800"/>
            <a:ext cx="838080" cy="533520"/>
          </a:xfrm>
          <a:prstGeom prst="flowChartMagneticDisk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/>
          <p:nvPr/>
        </p:nvCxnSpPr>
        <p:spPr>
          <a:xfrm>
            <a:off x="4762080" y="23623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638680" y="2743200"/>
            <a:ext cx="106704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/>
          <p:nvPr/>
        </p:nvCxnSpPr>
        <p:spPr>
          <a:xfrm>
            <a:off x="5486040" y="31237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 rot="2700000">
            <a:off x="6133680" y="392436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86160" y="3900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42080" y="41292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mb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80720" y="16146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mb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541008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2743200"/>
            <a:ext cx="1447920" cy="685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4724280"/>
            <a:ext cx="1447920" cy="457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S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00480" y="62625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afeSe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824120"/>
            <a:ext cx="75438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Before each Test Cycle the Member State indicates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test scenarios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he likes to execute by using the following nomencla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mber State: 2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est Phase: 1 character (N for normal, P for pil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est Cycle: 1 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est Scenario ID (or Test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cc"/>
                </a:solidFill>
                <a:latin typeface="Tahoma"/>
              </a:rPr>
              <a:t>NO-N1-</a:t>
            </a: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S1011-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orway executing scenario S1011-01 during first test cyle of the normal testing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cc"/>
                </a:solidFill>
                <a:latin typeface="Tahoma"/>
              </a:rPr>
              <a:t>DE-P2-</a:t>
            </a: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S102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ermany executing scenario S1022-02 during second test cycle of the pilot testing phase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752480"/>
            <a:ext cx="86104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stID: 8 characters – </a:t>
            </a: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Sxxxx-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for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xxxx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for test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yy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for vari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 particular difference in notation when using Web interface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ML interfac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S0111-0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Web User acting as POR sending Port Notification – normal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S0112-0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XML interface acting as PSC sending Port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f a Member State wants to test new variants </a:t>
            </a:r>
            <a:r>
              <a:rPr b="0" lang="nl-BE" sz="2000" spc="-1" strike="noStrike">
                <a:solidFill>
                  <a:srgbClr val="ff0000"/>
                </a:solidFill>
                <a:latin typeface="Tahoma"/>
              </a:rPr>
              <a:t>yy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starts from 20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19840" y="1650960"/>
            <a:ext cx="79059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Each test phase and test cycle is described by the test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r TestIDs that will be execu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When testing through Web interface add TestID on main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f the Web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23880" y="3886200"/>
          <a:ext cx="655344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86200"/>
                    <a:ext cx="6553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39840" y="1650960"/>
            <a:ext cx="7905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Each test phase and test cycle is described by the test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r TestIDs that will be execu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When testing through XML interface introduce TestID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XML message during cre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711600"/>
            <a:ext cx="8201160" cy="3077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?xml version="1.0" 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MS2SSN_Port_Not xmlns="urn:eu.emsa.ssn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Header Version="1.6" </a:t>
            </a:r>
            <a:r>
              <a:rPr b="1" lang="nl-BE" sz="1400" spc="-1" strike="noStrike">
                <a:solidFill>
                  <a:srgbClr val="ff0000"/>
                </a:solidFill>
                <a:latin typeface="Courier New"/>
              </a:rPr>
              <a:t>TestId=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</a:rPr>
              <a:t>"</a:t>
            </a:r>
            <a:r>
              <a:rPr b="1" lang="nl-BE" sz="1400" spc="-1" strike="noStrike">
                <a:solidFill>
                  <a:srgbClr val="ff0000"/>
                </a:solidFill>
                <a:latin typeface="Courier New"/>
              </a:rPr>
              <a:t>S0111-01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</a:rPr>
              <a:t>"</a:t>
            </a:r>
            <a:r>
              <a:rPr b="0" lang="nl-B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SRefId="CA74A588-DA7F-4C6B-896C-538FAD475BA4" SentAt="2004-10-19T07:00:33" TimeoutValue="60" From=“nlams01" To=“SSN" 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Notifi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VesselIdentification IMONumber=“5325526" MMSINumber=“349209671" CallSign=“LCQX3” ShipName=“OCEAN SAFE” 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VoyageInformation NextPortOfCall=“BEZEE” ETA=“2004-10-20T13:00:00” ETD=“2004-10-21T06:00:00” TotalPersonsOnBoard=“10”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/Notifi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/MS2SSN_Port_No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14400" y="1295280"/>
            <a:ext cx="79246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Human resources Execution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staffing table in Test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(Test Manager,Tester, Test System Admin) – covered by both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Human resources Support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connection problems, func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isunderstandings, organization issues =&gt; Helpdesk phone + newsgro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SSN Mailbox Addresses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be.test.safeseanet@getronics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Ulrik.Deriemaecker@cec.eu.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CC: Yannick.Texier@cec.eu.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Yves.Hardy@cec.eu.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SSN Helpdesk Phone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&lt;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+32/2/229.90.40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&gt; from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09h to 12h and 13h to 17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                       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(GMT+1)  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Monday till 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SSN Helpdesk Newsgroup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Circa directory – TREN: SafeSe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                         </a:t>
            </a:r>
            <a:r>
              <a:rPr b="0" lang="nl-BE" sz="1800" spc="-1" strike="noStrike" u="sng">
                <a:solidFill>
                  <a:srgbClr val="ff0000"/>
                </a:solidFill>
                <a:uFillTx/>
                <a:latin typeface="Tahoma"/>
              </a:rPr>
              <a:t>http://forum.europa.eu.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14400" y="1808280"/>
            <a:ext cx="7696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or the extension of the testing phase, 2 new URLs have been 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placing the previous ones. The “Test Plan” document will be upd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nsequently and sent to the Member States after this mee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99"/>
                </a:solidFill>
                <a:uFillTx/>
                <a:latin typeface="Tahoma"/>
              </a:rPr>
              <a:t>Internet Access</a:t>
            </a:r>
            <a:r>
              <a:rPr b="1" lang="nl-BE" sz="1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ff"/>
                </a:solidFill>
                <a:uFillTx/>
                <a:latin typeface="Tahoma"/>
              </a:rPr>
              <a:t>SafeSeaNet Web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.int/safeseanet/NCAWebApp/defaul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ff"/>
                </a:solidFill>
                <a:uFillTx/>
                <a:latin typeface="Tahoma"/>
              </a:rPr>
              <a:t>SafeSeaNet XML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.int/safeseanet/SafeSeaNetTest1/ssn.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3.    </a:t>
            </a:r>
            <a:r>
              <a:rPr b="0" lang="nl-BE" sz="1800" spc="-1" strike="noStrike" u="sng">
                <a:solidFill>
                  <a:srgbClr val="0000ff"/>
                </a:solidFill>
                <a:uFillTx/>
                <a:latin typeface="Tahoma"/>
              </a:rPr>
              <a:t>SafeSeaNet Management Console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nl-BE" sz="1800" spc="-1" strike="noStrike" u="sng">
                <a:solidFill>
                  <a:srgbClr val="ff0000"/>
                </a:solidFill>
                <a:uFillTx/>
                <a:latin typeface="Tahoma"/>
              </a:rPr>
              <a:t>https://webgate.cec.eu.int/safeseanet/SafeSeaNetTest1/login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14400" y="1828800"/>
            <a:ext cx="76960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99"/>
                </a:solidFill>
                <a:uFillTx/>
                <a:latin typeface="Tahoma"/>
              </a:rPr>
              <a:t>TESTA Access</a:t>
            </a:r>
            <a:r>
              <a:rPr b="1" lang="nl-BE" sz="1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ff"/>
                </a:solidFill>
                <a:uFillTx/>
                <a:latin typeface="Tahoma"/>
              </a:rPr>
              <a:t>SafeSeaNet Web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-admin.net/safeseanet/NCAWebApp/defaul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ff"/>
                </a:solidFill>
                <a:uFillTx/>
                <a:latin typeface="Tahoma"/>
              </a:rPr>
              <a:t>SafeSeaNet XML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-admin.net/safeseanet/SafeSeaNetTest1/ssn.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00ff"/>
                </a:solidFill>
                <a:uFillTx/>
                <a:latin typeface="Tahoma"/>
              </a:rPr>
              <a:t>SafeSeaNet Management Console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-admin.net/safeseanet/SafeSeaNetTest1/login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14400" y="1960560"/>
            <a:ext cx="76960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1.   Before executing your test scenarios, test your connection wit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entral SafeSeaNet System by accessing the following UR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99"/>
                </a:solidFill>
                <a:uFillTx/>
                <a:latin typeface="Tahoma"/>
              </a:rPr>
              <a:t>Internet Access</a:t>
            </a:r>
            <a:r>
              <a:rPr b="1" lang="nl-BE" sz="1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.int/safeseanet/NCAWebApp/defaul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99"/>
                </a:solidFill>
                <a:uFillTx/>
                <a:latin typeface="Tahoma"/>
              </a:rPr>
              <a:t>TESTA Access</a:t>
            </a:r>
            <a:r>
              <a:rPr b="1" lang="nl-BE" sz="1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nl-BE" sz="1800" spc="-1" strike="noStrike">
                <a:solidFill>
                  <a:srgbClr val="ff0000"/>
                </a:solidFill>
                <a:latin typeface="Tahoma"/>
              </a:rPr>
              <a:t>https://webgate.cec.eu-admin.net/safeseanet/NCAWebApp/defaul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s soon as connection can be established test sequences may be carried out by the te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827360"/>
            <a:ext cx="7315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 Test Cycle for a Member State implies 5 working days do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3048120"/>
            <a:ext cx="99036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3657600"/>
            <a:ext cx="99036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10760" y="30322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erform test scenarios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10760" y="364176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erform test scenarios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4267080"/>
            <a:ext cx="99036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45320" y="4281480"/>
            <a:ext cx="40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igest test results and bug de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45720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267080"/>
            <a:ext cx="99036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4267080"/>
            <a:ext cx="99036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Bu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5257800"/>
            <a:ext cx="99036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5867280"/>
            <a:ext cx="990360" cy="381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3840" y="525780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quest new test cycle, list of Test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1840" y="5867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ceive ACK next test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6172200"/>
            <a:ext cx="1219320" cy="304920"/>
          </a:xfrm>
          <a:prstGeom prst="leftArrow">
            <a:avLst>
              <a:gd name="adj1" fmla="val 50000"/>
              <a:gd name="adj2" fmla="val 9997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5867280"/>
            <a:ext cx="12952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entral Bu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SafeSeaNet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Since early October 2004, the SafeSeaNet system has been deployed successfully in the production environment of the EC Data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Prior to launching the central system in production, various stress test phases have been carried out for two weeks by EC aiming at verify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* the robustness of the system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* the reliabilit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* the response 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* its performanc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ll tests were achieved successfully and the whole SafeSeaNet  implementation is fully compliant with the technical specifications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36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produc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209680"/>
            <a:ext cx="80769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Test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rovide list of TestIDs with result of each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(passed, failed, partial =&gt; bug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end out by end of day 3 of each test cycle – allowing parties to resolv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ertain issues before the end of the test cycle so they can participate in th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next test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end out by test manager or SP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make the reporting by mail not by phone in order to have a trace of 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has been tested already in previous cycles </a:t>
            </a:r>
            <a:r>
              <a:rPr b="0" i="1" lang="nl-B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Regression Testing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– Tes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2252520"/>
            <a:ext cx="7696080" cy="35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Bug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ist of bug IDs used in the test report are explained in detail allowing 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o define if the problem is situated at our side or your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ist of bugs are added to the central bug track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each bug is described according to category, reproducibility, severity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ummary, etc. and obtains a unique bug sequenc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676520" y="3735360"/>
            <a:ext cx="7010280" cy="760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133720"/>
            <a:ext cx="990720" cy="2971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3200" y="2286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43200" y="304812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43200" y="380988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6520" y="203364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afeSeaNet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43200" y="4572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06400" y="2819520"/>
            <a:ext cx="6523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Extension of the test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9040" y="4319640"/>
            <a:ext cx="6522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363384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Test Evaluation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5800" y="1228680"/>
          <a:ext cx="7772400" cy="5095800"/>
        </p:xfrm>
        <a:graphic>
          <a:graphicData uri="http://schemas.openxmlformats.org/drawingml/2006/table">
            <a:tbl>
              <a:tblPr/>
              <a:tblGrid>
                <a:gridCol w="2163600"/>
                <a:gridCol w="2953080"/>
                <a:gridCol w="2655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or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 test cycles carried out (xml &amp; web interfa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 test with S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iant with 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ted in one test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ompliant with 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e 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 test cycles carried out but with web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interface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 interface to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st cycle performed with xm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L layer to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st cycle performed with xm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ompliant with 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s one test of the web interface, no info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elg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al test cycles carried out with xm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test cycle requir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L and xml 1.6 to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5800" y="1228680"/>
          <a:ext cx="7772400" cy="5095800"/>
        </p:xfrm>
        <a:graphic>
          <a:graphicData uri="http://schemas.openxmlformats.org/drawingml/2006/table">
            <a:tbl>
              <a:tblPr/>
              <a:tblGrid>
                <a:gridCol w="2163600"/>
                <a:gridCol w="2953080"/>
                <a:gridCol w="2655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 performed a test cycle with web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information is known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 performed one test cycle Compliance with 1.6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st cycle perfor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 test cycles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n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fficial test cy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chedule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re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fficial test cy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chedule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fficial test cy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chedule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fficial test cy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chedule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676520" y="4421160"/>
            <a:ext cx="7010280" cy="760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2133720"/>
            <a:ext cx="9907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43200" y="2286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43200" y="304812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43200" y="380988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03364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afeSeaNet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43200" y="457200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24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06400" y="2819520"/>
            <a:ext cx="6523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Extension of the test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59040" y="4319640"/>
            <a:ext cx="6522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3581280"/>
            <a:ext cx="662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est Evaluation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produc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73320" y="1881360"/>
          <a:ext cx="6599160" cy="436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3320" y="1881360"/>
                    <a:ext cx="659916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828800"/>
            <a:ext cx="2057400" cy="472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3276720" cy="472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produc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4800600"/>
            <a:ext cx="76212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24816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3406680"/>
            <a:ext cx="0" cy="327240"/>
          </a:xfrm>
          <a:prstGeom prst="line">
            <a:avLst/>
          </a:prstGeom>
          <a:ln w="28440">
            <a:solidFill>
              <a:srgbClr val="7a1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1843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000099"/>
                </a:solidFill>
                <a:uFillTx/>
                <a:latin typeface="Arial"/>
              </a:rPr>
              <a:t>EC Data Cent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2120" cy="457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6160" y="26668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66"/>
                </a:solidFill>
                <a:latin typeface="Arial"/>
              </a:rPr>
              <a:t>Operator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90720" y="3733920"/>
          <a:ext cx="60948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094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4920" y="3886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SP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1828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000099"/>
                </a:solidFill>
                <a:uFillTx/>
                <a:latin typeface="Arial"/>
              </a:rPr>
              <a:t>Member Stat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895480" y="3276720"/>
          <a:ext cx="2057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276720"/>
                    <a:ext cx="2057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74320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95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45820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5840" y="3733920"/>
            <a:ext cx="332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Heartb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781320" y="41148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523880" cy="0"/>
          </a:xfrm>
          <a:prstGeom prst="line">
            <a:avLst/>
          </a:prstGeom>
          <a:ln w="28440">
            <a:solidFill>
              <a:srgbClr val="7a1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0" y="3657600"/>
          <a:ext cx="53352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657600"/>
                    <a:ext cx="533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781680" y="2819520"/>
          <a:ext cx="90504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2819520"/>
                    <a:ext cx="90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781680" y="4648320"/>
          <a:ext cx="90504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4648320"/>
                    <a:ext cx="90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001000" y="2819520"/>
          <a:ext cx="91440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01000" y="281952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8001000" y="4648320"/>
          <a:ext cx="914400" cy="1143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01000" y="464832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742160" y="3581280"/>
          <a:ext cx="335160" cy="1306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2160" y="3581280"/>
                    <a:ext cx="33516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flipH="1" flipV="1">
            <a:off x="8076960" y="41911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46880" y="3429000"/>
          <a:ext cx="334800" cy="152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46880" y="3429000"/>
                    <a:ext cx="334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flipH="1">
            <a:off x="8076960" y="32767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62164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99"/>
                </a:solidFill>
                <a:latin typeface="Arial"/>
              </a:rPr>
              <a:t>SafeSeaNet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535720" y="3657600"/>
          <a:ext cx="865080" cy="1008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35720" y="3657600"/>
                    <a:ext cx="86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6781320" y="3276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467120" y="3428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467120" y="41911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447560" y="4191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525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038480"/>
            <a:ext cx="685800" cy="0"/>
          </a:xfrm>
          <a:prstGeom prst="line">
            <a:avLst/>
          </a:prstGeom>
          <a:ln w="28440">
            <a:solidFill>
              <a:srgbClr val="7a1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038480"/>
            <a:ext cx="304920" cy="838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038480"/>
            <a:ext cx="2286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3"/>
          <a:stretch/>
        </p:blipFill>
        <p:spPr>
          <a:xfrm>
            <a:off x="7556400" y="5049720"/>
            <a:ext cx="292320" cy="360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7467480" y="4343040"/>
            <a:ext cx="304920" cy="6858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77320" y="3352320"/>
            <a:ext cx="228600" cy="7621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4"/>
          <a:stretch/>
        </p:blipFill>
        <p:spPr>
          <a:xfrm>
            <a:off x="8001000" y="2992320"/>
            <a:ext cx="291960" cy="36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8077320" y="3504960"/>
            <a:ext cx="380880" cy="68580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67480" y="4114440"/>
            <a:ext cx="304920" cy="68580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600200"/>
            <a:ext cx="320040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34000" rIns="90000" tIns="442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6002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3333cc"/>
                </a:solidFill>
                <a:uFillTx/>
                <a:latin typeface="Arial"/>
              </a:rPr>
              <a:t>SSN 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19051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7a1d00"/>
                </a:solidFill>
                <a:latin typeface="Arial"/>
              </a:rPr>
              <a:t>1. Operator submits a query to 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1337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cc99"/>
                </a:solidFill>
                <a:latin typeface="Arial"/>
              </a:rPr>
              <a:t>2. Query passes through EC R.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3623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99"/>
                </a:solidFill>
                <a:latin typeface="Arial"/>
              </a:rPr>
              <a:t>3. Active SSN processes the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5909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660066"/>
                </a:solidFill>
                <a:latin typeface="Arial"/>
              </a:rPr>
              <a:t>4. SSN consolidates th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81952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8000"/>
                </a:solidFill>
                <a:latin typeface="Arial"/>
              </a:rPr>
              <a:t>5. SSN replies to the query</a:t>
            </a:r>
            <a:r>
              <a:rPr b="1" lang="fr-BE" sz="1400" spc="-1" strike="noStrike">
                <a:solidFill>
                  <a:srgbClr val="7a1d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248520" y="4952880"/>
            <a:ext cx="838080" cy="60984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952880" y="4876920"/>
          <a:ext cx="533520" cy="380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52880" y="4876920"/>
                    <a:ext cx="533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736640" y="3838680"/>
          <a:ext cx="320760" cy="199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36640" y="3838680"/>
                    <a:ext cx="320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61080" y="5257800"/>
          <a:ext cx="320400" cy="200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61080" y="5257800"/>
                    <a:ext cx="32040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105520" y="3838680"/>
          <a:ext cx="320400" cy="199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105520" y="3838680"/>
                    <a:ext cx="3204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447920" y="4343400"/>
            <a:ext cx="1828800" cy="45720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533920" y="4952880"/>
          <a:ext cx="847800" cy="1009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533920" y="4952880"/>
                    <a:ext cx="8478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495680" y="5029200"/>
            <a:ext cx="1143000" cy="45720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0" y="4343400"/>
          <a:ext cx="320760" cy="200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286000" y="4343400"/>
                    <a:ext cx="32076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Roadmap –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2057400"/>
          <a:ext cx="868680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5740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Roadmap – IOC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981080"/>
            <a:ext cx="80010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Initial Operational Capabilities (IOC)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starting milestone is the IOC. The completion point represents the FO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process could be outlined as follow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OC milestone: this begins (clock starts) after user acceptance of the new SafeSeaNet system. The IOC phase can be characterized as an official period of adjustment of the new syst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underlying assumption is that the users will not reach effective and efficient performance for some period of time. This might happen for the following reas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-  Not all Member States will be connected at the same time. Th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tegration should be done progressively within this coming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Roadmap – IOC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981080"/>
            <a:ext cx="8001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Initial Operational Capabilities (IOC) phase, </a:t>
            </a: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-  Users are learning and discovering how to use the system as well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procedures to be fulfilled as stated in the ICD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-  Users do not understand all the system features and functions and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earning the techniques and level of knowledge needed to devel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hortcuts and other efficiency gaining ste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-  System fixes performed by the contractor to correct basic 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nctionality problems will likely continue through most of this phase</a:t>
            </a: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time frame for completing the IOC should not exceed 5 to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feSeaNet Roadmap – FOC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828800"/>
            <a:ext cx="80010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 u="sng">
                <a:solidFill>
                  <a:srgbClr val="000000"/>
                </a:solidFill>
                <a:uFillTx/>
                <a:latin typeface="Tahoma"/>
              </a:rPr>
              <a:t>Full Operational Capabilities (FOC)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OC phase represents the end of the transition period and stops the project c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t this point, the system’s errors have been eliminated and corrected consequently, users have been adequately trained and are completely familiar with the SafeseaNet system, policies, procedures,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focus has shifted from fixing and implementing the system to sustaining routine business processes and identifying opportunities for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OC clearly signals the end of the project (release 1.0 of SafeSeaNet). Changes or enhancements to the SafeSeaNet system will be part of the release 2.0 of SafeSea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52280"/>
            <a:ext cx="6705720" cy="609840"/>
          </a:xfrm>
          <a:prstGeom prst="rect">
            <a:avLst/>
          </a:prstGeom>
          <a:solidFill>
            <a:srgbClr val="3d7a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Directorate General for Energy and Transport</a:t>
            </a:r>
            <a:br>
              <a:rPr sz="1800"/>
            </a:br>
            <a:r>
              <a:rPr b="1" lang="fr-BE" sz="1800" spc="-1" strike="noStrike">
                <a:solidFill>
                  <a:srgbClr val="ffffcb"/>
                </a:solidFill>
                <a:latin typeface="Arial"/>
              </a:rPr>
              <a:t>Maritime Safety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5:29:41Z</dcterms:created>
  <dc:creator>bergogi</dc:creator>
  <dc:description/>
  <dc:language>en-US</dc:language>
  <cp:lastModifiedBy>Deriemaecker Ulrik</cp:lastModifiedBy>
  <cp:lastPrinted>2002-09-23T08:37:36Z</cp:lastPrinted>
  <dcterms:modified xsi:type="dcterms:W3CDTF">2004-10-21T12:10:44Z</dcterms:modified>
  <cp:revision>485</cp:revision>
  <dc:subject/>
  <dc:title>No Slide Title</dc:title>
</cp:coreProperties>
</file>