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19.wmf" ContentType="image/x-wmf"/>
  <Override PartName="/ppt/media/image9.jpeg" ContentType="image/jpeg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224-642E-432C-A759-12F0749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C55-39BF-42FC-BD81-12BD57A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D9A-D47D-44E5-8B1E-067DECAF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FB0-58A7-4D27-BB02-C53D730B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38F1-68E9-47C6-9889-365D26DD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B77A-8C90-4268-8B4A-E89A71A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884C-7623-44D7-BCE2-F0535FA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46D7-8247-47D5-9C08-F3890D9F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8225-4DE8-4579-8DAD-81ED906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BB4-68C0-4963-B600-1552B7B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E0B-8170-481B-B711-DB270FA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A7D-3885-4E68-B531-8EEF5EE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D1E0-6B6D-48FE-A837-51C7FCC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FD82-0D5B-4343-A6D4-74C4FD36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FB0-A3F5-447E-93B0-9E213D1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15C5-1444-44F7-BBA5-3119E3EF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AA15-A6FD-482B-A373-530935D1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BD0C-2443-4782-86CF-C84E6DF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5F36-462C-46E5-AAAD-2DE5842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9931-7B21-4BDA-B838-F54B28F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36DB-F737-4C52-B6FE-EE3C069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7265-3FA8-44CF-B3A5-ABF8921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E5C-6BCF-4DA0-B48F-D1B0648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5A7C-84C1-42B7-AC99-470E27D0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F282-3CFD-42AA-A531-50DC8C8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F077-2FA0-4982-8BBC-5C9C3AE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B664-0EAC-4BB9-9DF8-E3C782F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AD61-91A8-41CF-A429-7818E94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F0CD-623C-41B5-9CDC-13F3795F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1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94560" y="19807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05740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761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94560" y="42494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36A3-C517-4DB0-8903-6EF0CC7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FCE-92A3-45A5-A678-BCA36F4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1F3-1FDC-4E69-9EEE-F55295B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F30-96CC-4D91-88EA-595E163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4CF-9BE7-4BAE-A7DF-89523F8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1720" y="42494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FEA-0529-49A0-828F-46BAA9A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19807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2494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408-CF10-4FB8-9332-9DEE145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243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124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243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7676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43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24A1-5552-4F22-A9B2-DD68043B9078}" type="slidenum">
              <a:rPr b="0" lang="en-US" sz="1400" spc="-1" strike="noStrike">
                <a:solidFill>
                  <a:srgbClr val="01243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292-4FB8-42C2-82DA-C127BA0972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A792-BB2B-417F-9BB2-2D00655F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8.wmf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6858000" cy="2865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243d"/>
                </a:solidFill>
                <a:latin typeface="Arial"/>
              </a:rPr>
              <a:t>SSN National WEB Interface </a:t>
            </a:r>
            <a:endParaRPr b="1" lang="en-US" sz="36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3068640"/>
            <a:ext cx="1150920" cy="360360"/>
          </a:xfrm>
          <a:prstGeom prst="wedgeRoundRectCallout">
            <a:avLst>
              <a:gd name="adj1" fmla="val -106277"/>
              <a:gd name="adj2" fmla="val 9801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3645000"/>
            <a:ext cx="1511280" cy="288720"/>
          </a:xfrm>
          <a:prstGeom prst="wedgeRoundRectCallout">
            <a:avLst>
              <a:gd name="adj1" fmla="val -93699"/>
              <a:gd name="adj2" fmla="val 329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ontact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8000" y="4508640"/>
            <a:ext cx="1366920" cy="288720"/>
          </a:xfrm>
          <a:prstGeom prst="wedgeRoundRectCallout">
            <a:avLst>
              <a:gd name="adj1" fmla="val -97620"/>
              <a:gd name="adj2" fmla="val -22637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5567400" cy="3030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SN National WEB interface. Arrival notification. Step one.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136836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10800000">
            <a:off x="1835280" y="3357720"/>
            <a:ext cx="1224000" cy="576000"/>
          </a:xfrm>
          <a:prstGeom prst="wedgeRoundRectCallout">
            <a:avLst>
              <a:gd name="adj1" fmla="val -104087"/>
              <a:gd name="adj2" fmla="val 12272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Default mar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797360"/>
            <a:ext cx="1513080" cy="1008000"/>
          </a:xfrm>
          <a:prstGeom prst="wedgeRoundRectCallout">
            <a:avLst>
              <a:gd name="adj1" fmla="val 78333"/>
              <a:gd name="adj2" fmla="val -78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To be marked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if 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HAZMAT</a:t>
            </a:r>
            <a:br>
              <a:rPr sz="1400"/>
            </a:br>
            <a:r>
              <a:rPr b="1" lang="nb-NO" sz="1400" spc="-1" strike="noStrike">
                <a:solidFill>
                  <a:srgbClr val="01243d"/>
                </a:solidFill>
                <a:latin typeface="Arial"/>
              </a:rPr>
              <a:t>c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2457360"/>
            <a:ext cx="5856120" cy="2894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SSN National WEB interface.</a:t>
            </a:r>
            <a:br>
              <a:rPr sz="3200"/>
            </a:br>
            <a:r>
              <a:rPr b="1" lang="en-US" sz="3200" spc="-1" strike="noStrike">
                <a:solidFill>
                  <a:srgbClr val="01243d"/>
                </a:solidFill>
                <a:latin typeface="Arial"/>
              </a:rPr>
              <a:t>Arrival notification. Step 2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357720"/>
            <a:ext cx="1368360" cy="647640"/>
          </a:xfrm>
          <a:prstGeom prst="wedgeRoundRectCallout">
            <a:avLst>
              <a:gd name="adj1" fmla="val 58930"/>
              <a:gd name="adj2" fmla="val 1686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Search icon for ship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5734080"/>
            <a:ext cx="1800360" cy="503280"/>
          </a:xfrm>
          <a:prstGeom prst="wedgeRoundRectCallout">
            <a:avLst>
              <a:gd name="adj1" fmla="val 86064"/>
              <a:gd name="adj2" fmla="val -16450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243d"/>
                </a:solidFill>
                <a:latin typeface="Arial"/>
              </a:rPr>
              <a:t>When data given go to 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16360" y="1635120"/>
            <a:ext cx="5184720" cy="5081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SN National WEB interface</a:t>
            </a:r>
            <a:br>
              <a:rPr sz="3200"/>
            </a:b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Arrival notification.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3213000"/>
            <a:ext cx="1225440" cy="792360"/>
          </a:xfrm>
          <a:prstGeom prst="wedgeRoundRectCallout">
            <a:avLst>
              <a:gd name="adj1" fmla="val 52851"/>
              <a:gd name="adj2" fmla="val 8326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Search for port code or type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6920" y="3716280"/>
            <a:ext cx="1117800" cy="1225440"/>
          </a:xfrm>
          <a:prstGeom prst="wedgeRoundRectCallout">
            <a:avLst>
              <a:gd name="adj1" fmla="val -171023"/>
              <a:gd name="adj2" fmla="val 3873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The directive expect ETD from arriving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5084640"/>
            <a:ext cx="1116000" cy="720720"/>
          </a:xfrm>
          <a:prstGeom prst="wedgeRoundRectCallout">
            <a:avLst>
              <a:gd name="adj1" fmla="val -82574"/>
              <a:gd name="adj2" fmla="val 14713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When data given go to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4724280"/>
            <a:ext cx="1224000" cy="576360"/>
          </a:xfrm>
          <a:prstGeom prst="wedgeRoundRectCallout">
            <a:avLst>
              <a:gd name="adj1" fmla="val 74513"/>
              <a:gd name="adj2" fmla="val 92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ISPS data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5827680" cy="3246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43d"/>
                </a:solidFill>
                <a:latin typeface="Arial"/>
              </a:rPr>
              <a:t>SSN National WEB interface Departure HAZMAT notification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357720"/>
            <a:ext cx="1368360" cy="720720"/>
          </a:xfrm>
          <a:prstGeom prst="wedgeRoundRectCallout">
            <a:avLst>
              <a:gd name="adj1" fmla="val 99074"/>
              <a:gd name="adj2" fmla="val 112333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Mark for HAZMAT c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5754600" cy="5014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580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1243d"/>
                </a:solidFill>
                <a:latin typeface="Arial"/>
              </a:rPr>
              <a:t>SSN Nationalt WEB interface</a:t>
            </a:r>
            <a:br>
              <a:rPr sz="3200"/>
            </a:br>
            <a:r>
              <a:rPr b="1" lang="nb-NO" sz="3200" spc="-1" strike="noStrike">
                <a:solidFill>
                  <a:srgbClr val="01243d"/>
                </a:solidFill>
                <a:latin typeface="Arial"/>
              </a:rPr>
              <a:t>for departure message for HAZMAT cago</a:t>
            </a:r>
            <a:endParaRPr b="1" lang="en-US" sz="32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500280"/>
            <a:ext cx="1692000" cy="648000"/>
          </a:xfrm>
          <a:prstGeom prst="wedgeRoundRectCallout">
            <a:avLst>
              <a:gd name="adj1" fmla="val 62009"/>
              <a:gd name="adj2" fmla="val 93384"/>
              <a:gd name="adj3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Search for Cargo type or type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3789360"/>
            <a:ext cx="914400" cy="609480"/>
          </a:xfrm>
          <a:prstGeom prst="wedgeRoundRectCallout">
            <a:avLst>
              <a:gd name="adj1" fmla="val -168055"/>
              <a:gd name="adj2" fmla="val 71979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213000"/>
            <a:ext cx="1187640" cy="1008000"/>
          </a:xfrm>
          <a:prstGeom prst="wedgeRoundRectCallout">
            <a:avLst>
              <a:gd name="adj1" fmla="val -103874"/>
              <a:gd name="adj2" fmla="val 15535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lick for update (add to list). You can enter mor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12000" y="4869000"/>
            <a:ext cx="1152720" cy="720720"/>
          </a:xfrm>
          <a:prstGeom prst="wedgeRoundRectCallout">
            <a:avLst>
              <a:gd name="adj1" fmla="val -166388"/>
              <a:gd name="adj2" fmla="val 11828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List of entered cargo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5661000"/>
            <a:ext cx="1079640" cy="719280"/>
          </a:xfrm>
          <a:prstGeom prst="wedgeRoundRectCallout">
            <a:avLst>
              <a:gd name="adj1" fmla="val -80296"/>
              <a:gd name="adj2" fmla="val 4646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When data given go to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5370480" cy="5370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64360" y="2060640"/>
            <a:ext cx="1800360" cy="1224000"/>
          </a:xfrm>
          <a:prstGeom prst="wedgeRoundRectCallout">
            <a:avLst>
              <a:gd name="adj1" fmla="val -94620"/>
              <a:gd name="adj2" fmla="val 12107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Port Notification as arrival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HAZMAT arrival message if coming from outside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3429000"/>
            <a:ext cx="1368360" cy="1295280"/>
          </a:xfrm>
          <a:prstGeom prst="wedgeRoundRectCallout">
            <a:avLst>
              <a:gd name="adj1" fmla="val -133296"/>
              <a:gd name="adj2" fmla="val 4668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In Norway the message is used as arrival - as well as departur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4941720"/>
            <a:ext cx="1297080" cy="1009800"/>
          </a:xfrm>
          <a:prstGeom prst="wedgeRoundRectCallout">
            <a:avLst>
              <a:gd name="adj1" fmla="val -74847"/>
              <a:gd name="adj2" fmla="val 10188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When data given you have finished the Arrival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GB" sz="2700" spc="-1" strike="noStrike">
                <a:solidFill>
                  <a:srgbClr val="01243d"/>
                </a:solidFill>
                <a:latin typeface="Arial"/>
              </a:rPr>
              <a:t>Finished departure message for Port Notification and HAZMAT Notification</a:t>
            </a:r>
            <a:endParaRPr b="1" lang="en-US" sz="2700" spc="-1" strike="noStrike">
              <a:solidFill>
                <a:srgbClr val="0124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124000" y="1981080"/>
            <a:ext cx="6230880" cy="4716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858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243d"/>
                </a:solidFill>
                <a:latin typeface="Arial"/>
              </a:rPr>
              <a:t>List of Messages given by the operator in question</a:t>
            </a:r>
            <a:endParaRPr b="1" lang="en-US" sz="4000" spc="-1" strike="noStrike">
              <a:solidFill>
                <a:srgbClr val="01243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1628640"/>
            <a:ext cx="1800000" cy="719280"/>
          </a:xfrm>
          <a:prstGeom prst="wedgeRoundRectCallout">
            <a:avLst>
              <a:gd name="adj1" fmla="val -238449"/>
              <a:gd name="adj2" fmla="val 138078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243d"/>
                </a:solidFill>
                <a:latin typeface="Arial"/>
              </a:rPr>
              <a:t>Choosing this tag will give you the list of your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360" y="189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ification Message (XML message-bas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2079720"/>
            <a:ext cx="315108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2514600"/>
          <a:ext cx="10670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067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057400" y="3048120"/>
          <a:ext cx="1066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048120"/>
                    <a:ext cx="1066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842120" y="26668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ort Authority:A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ember Sta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91120"/>
            <a:ext cx="24480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4343400"/>
          <a:ext cx="60948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343400"/>
                    <a:ext cx="6094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143000" y="5364000"/>
          <a:ext cx="68580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364000"/>
                    <a:ext cx="685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523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7920" y="597384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National Contac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520" y="45720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N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8080" y="2079720"/>
            <a:ext cx="289548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6248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ata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467480" y="4191120"/>
          <a:ext cx="609840" cy="122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4191120"/>
                    <a:ext cx="60984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467480" y="5562720"/>
          <a:ext cx="60984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55627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77724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685800" y="2971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1828800"/>
            <a:ext cx="380880" cy="6858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429000"/>
            <a:ext cx="533520" cy="9144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61152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Port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4648320"/>
            <a:ext cx="236196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5181480"/>
            <a:ext cx="0" cy="2286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71880" y="4038480"/>
          <a:ext cx="1743120" cy="160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71880" y="4038480"/>
                    <a:ext cx="1743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638680" y="4648320"/>
            <a:ext cx="198144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51920" y="281952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Code: MSA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5105520"/>
            <a:ext cx="22860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80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8000"/>
                </a:solidFill>
                <a:latin typeface="Arial"/>
              </a:rPr>
              <a:t>MS2SSN_Port_Not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5105520"/>
            <a:ext cx="19814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5334120"/>
            <a:ext cx="0" cy="228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0400" y="449568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afeSe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495680"/>
            <a:ext cx="2438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19112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https://ssn.emsa.eu.int/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495680"/>
            <a:ext cx="205740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ocument"/>
          <p:cNvSpPr/>
          <p:nvPr/>
        </p:nvSpPr>
        <p:spPr>
          <a:xfrm>
            <a:off x="5873760" y="4646520"/>
            <a:ext cx="1365120" cy="30636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08600" y="464832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SN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92360" y="1763640"/>
            <a:ext cx="2513880" cy="1189080"/>
            <a:chOff x="3492360" y="1763640"/>
            <a:chExt cx="2513880" cy="1189080"/>
          </a:xfrm>
        </p:grpSpPr>
        <p:sp>
          <p:nvSpPr>
            <p:cNvPr id="206" name=""/>
            <p:cNvSpPr/>
            <p:nvPr/>
          </p:nvSpPr>
          <p:spPr>
            <a:xfrm>
              <a:off x="3492360" y="1763640"/>
              <a:ext cx="2448720" cy="85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2360" y="1763640"/>
              <a:ext cx="2513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581280" y="185904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1. https://SSN.EMSA.EU.INT/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208764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. SSN Server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31624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. MS2SSN_Port_Not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6080" y="4449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76480" y="487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467480" y="3962520"/>
          <a:ext cx="685800" cy="380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467480" y="396252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1828800" y="4724280"/>
            <a:ext cx="2209680" cy="533520"/>
            <a:chOff x="1828800" y="4724280"/>
            <a:chExt cx="2209680" cy="533520"/>
          </a:xfrm>
        </p:grpSpPr>
        <p:sp>
          <p:nvSpPr>
            <p:cNvPr id="217" name=""/>
            <p:cNvSpPr/>
            <p:nvPr/>
          </p:nvSpPr>
          <p:spPr>
            <a:xfrm>
              <a:off x="1828800" y="510552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0"/>
            <a:stretch/>
          </p:blipFill>
          <p:spPr>
            <a:xfrm>
              <a:off x="2498040" y="4724280"/>
              <a:ext cx="3765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3851280" y="5678640"/>
            <a:ext cx="1752120" cy="837720"/>
            <a:chOff x="3851280" y="5678640"/>
            <a:chExt cx="1752120" cy="837720"/>
          </a:xfrm>
        </p:grpSpPr>
        <p:sp>
          <p:nvSpPr>
            <p:cNvPr id="220" name=""/>
            <p:cNvSpPr/>
            <p:nvPr/>
          </p:nvSpPr>
          <p:spPr>
            <a:xfrm>
              <a:off x="3851280" y="5678640"/>
              <a:ext cx="1706400" cy="83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51280" y="5678640"/>
              <a:ext cx="175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Transaction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Encrypted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SN Certific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onnection Secu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 flipV="1">
            <a:off x="2971800" y="5257440"/>
            <a:ext cx="838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538280"/>
          <a:ext cx="1295280" cy="51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1538280"/>
                    <a:ext cx="12952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4:44:05Z</dcterms:created>
  <dc:creator> Reidar Kjennbakken</dc:creator>
  <dc:description/>
  <dc:language>en-US</dc:language>
  <cp:lastModifiedBy>Reidar Kjennbakken</cp:lastModifiedBy>
  <dcterms:modified xsi:type="dcterms:W3CDTF">2004-10-25T10:53:41Z</dcterms:modified>
  <cp:revision>26</cp:revision>
  <dc:subject/>
  <dc:title>Nasjonal SafeSeaNet løsning</dc:title>
</cp:coreProperties>
</file>