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109-11B0-4B1B-99BC-7A0041BA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400" y="42494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D66-2F59-4470-BA31-EF98A623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7172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05A-3888-4AFD-986B-012E1A34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7616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456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40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7616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456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563-6D5D-4E73-9A83-17BDC569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A9F9-4494-45F9-9FDC-A796930D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8D99-A12A-4B0C-9E65-963E747E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A198-B169-4A27-8AA4-F33AF24B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4991-5E0B-4D45-9320-82C5BE6F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4C74-5DA9-4CC2-8E23-A17C509D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06AE-F1D5-4D6B-BF16-48CF4619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0E6D-0410-40CE-A188-F2CD6E23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E8E-BCDA-483F-A754-A266BF78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7172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382D-BD93-429C-82AB-53A9A439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4525-CDF1-4E68-B768-6A8CE9B5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057400" y="42494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293E-47C2-4DCE-9FA3-254C9268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7172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7B7F-FE32-43F1-979F-7216D3B7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616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456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05740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7616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456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E922-7BB6-44EC-87DB-8D4238D3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8B9-F844-4064-B614-A16275D8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DA5-764A-430F-92D4-0AA6486D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B925-2CB3-429B-B211-6FA0958D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73C-1351-4C11-9FF2-A2FF02DE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9DB-31DC-42C9-AFAC-CF8D23B9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7172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94F-E4C4-4AFB-9627-B981D932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5EC-E4F2-4723-9D44-8D8C90A5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243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040" y="647676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243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243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243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243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47676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243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3636-821E-47E6-AE83-2AD7117532D5}" type="slidenum">
              <a:rPr b="0" lang="en-US" sz="1400" spc="-1" strike="noStrike">
                <a:solidFill>
                  <a:srgbClr val="01243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3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0CE8-2B57-4CE6-B768-098F215C5A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243d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1243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1243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243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243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1243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243d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1243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1243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243d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1243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243d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1243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243d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1243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hiprep.no/" TargetMode="External"/><Relationship Id="rId3" Type="http://schemas.openxmlformats.org/officeDocument/2006/relationships/hyperlink" Target="file:///National%20SafeSeaNet%20solution-B.ppt" TargetMode="External"/><Relationship Id="rId4" Type="http://schemas.openxmlformats.org/officeDocument/2006/relationships/hyperlink" Target="file:///National%20SafeSeaNet%20solution-B.ppt" TargetMode="External"/><Relationship Id="rId5" Type="http://schemas.openxmlformats.org/officeDocument/2006/relationships/hyperlink" Target="file:///National%20SafeSeaNet%20solution-B.ppt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SafeSeaNet in Norwa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4038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chnical overview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idar kjennbakk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243d"/>
                </a:solidFill>
                <a:latin typeface="Arial"/>
              </a:rPr>
              <a:t>Schematic</a:t>
            </a:r>
            <a:endParaRPr b="1" lang="en-US" sz="4000" spc="-1" strike="noStrike">
              <a:solidFill>
                <a:srgbClr val="01243d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057400" y="2735280"/>
          <a:ext cx="6858000" cy="28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2735280"/>
                    <a:ext cx="685800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9000"/>
            <a:ext cx="8928000" cy="6669000"/>
          </a:xfrm>
          <a:prstGeom prst="rect">
            <a:avLst/>
          </a:prstGeom>
          <a:solidFill>
            <a:srgbClr val="0066cc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68580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243d"/>
                </a:solidFill>
                <a:latin typeface="Arial"/>
              </a:rPr>
              <a:t>System Architecture</a:t>
            </a: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8720" y="2492280"/>
            <a:ext cx="1154160" cy="41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57800" y="2492280"/>
            <a:ext cx="1154160" cy="259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11640" y="2492280"/>
            <a:ext cx="1154160" cy="259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2995560"/>
            <a:ext cx="1154160" cy="151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29440" y="2637000"/>
            <a:ext cx="1008000" cy="574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ebe9e"/>
              </a:gs>
              <a:gs pos="100000">
                <a:srgbClr val="ff9966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S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9440" y="4149720"/>
            <a:ext cx="1008000" cy="574560"/>
          </a:xfrm>
          <a:prstGeom prst="rect">
            <a:avLst/>
          </a:prstGeom>
          <a:blipFill rotWithShape="0">
            <a:blip r:embed="rId2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hipR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Web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84720" y="4076640"/>
            <a:ext cx="1008000" cy="574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ebe9e"/>
              </a:gs>
              <a:gs pos="100000">
                <a:srgbClr val="ff9966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S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82720" y="2347920"/>
            <a:ext cx="954360" cy="50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e68a"/>
              </a:gs>
              <a:gs pos="100000">
                <a:srgbClr val="ffcc00">
                  <a:alpha val="88235"/>
                </a:srgbClr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BizTal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01800" y="3211560"/>
            <a:ext cx="1008360" cy="574560"/>
          </a:xfrm>
          <a:prstGeom prst="rect">
            <a:avLst/>
          </a:prstGeom>
          <a:gradFill rotWithShape="0">
            <a:gsLst>
              <a:gs pos="0">
                <a:srgbClr val="fee68a"/>
              </a:gs>
              <a:gs pos="100000">
                <a:srgbClr val="ffcc00">
                  <a:alpha val="88235"/>
                </a:srgbClr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MS-SQ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1800" y="2781360"/>
            <a:ext cx="1008000" cy="574560"/>
          </a:xfrm>
          <a:prstGeom prst="rect">
            <a:avLst/>
          </a:prstGeom>
          <a:gradFill rotWithShape="0">
            <a:gsLst>
              <a:gs pos="0">
                <a:srgbClr val="fee68a"/>
              </a:gs>
              <a:gs pos="100000">
                <a:srgbClr val="ffcc00">
                  <a:alpha val="88235"/>
                </a:srgbClr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01800" y="4724280"/>
            <a:ext cx="1008360" cy="432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ebe9e"/>
              </a:gs>
              <a:gs pos="100000">
                <a:srgbClr val="ff9966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S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1800" y="3860640"/>
            <a:ext cx="1008000" cy="792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be7e"/>
              </a:gs>
              <a:gs pos="100000">
                <a:srgbClr val="ff9933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hipR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01800" y="5805360"/>
            <a:ext cx="1008000" cy="432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ebe9e"/>
              </a:gs>
              <a:gs pos="100000">
                <a:srgbClr val="ff9966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SN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445000"/>
            <a:ext cx="1008000" cy="432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ebe9e"/>
              </a:gs>
              <a:gs pos="100000">
                <a:srgbClr val="ff9966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igger Voy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1800" y="4797360"/>
            <a:ext cx="100800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ebe9e"/>
              </a:gs>
              <a:gs pos="100000">
                <a:srgbClr val="ff9966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proced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4075200"/>
            <a:ext cx="1008360" cy="358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ebe9e"/>
              </a:gs>
              <a:gs pos="100000">
                <a:srgbClr val="ff9966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D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3284640"/>
            <a:ext cx="1008000" cy="360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ebe9e"/>
              </a:gs>
              <a:gs pos="100000">
                <a:srgbClr val="ff9966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Orchest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27640" y="2708280"/>
            <a:ext cx="649080" cy="574560"/>
          </a:xfrm>
          <a:prstGeom prst="rect">
            <a:avLst/>
          </a:prstGeom>
          <a:gradFill rotWithShape="0">
            <a:gsLst>
              <a:gs pos="0">
                <a:srgbClr val="fee68a"/>
              </a:gs>
              <a:gs pos="100000">
                <a:srgbClr val="ffcc00">
                  <a:alpha val="88235"/>
                </a:srgbClr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BizTal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96" idx="4"/>
            <a:endCxn id="106" idx="1"/>
          </p:cNvCxnSpPr>
          <p:nvPr/>
        </p:nvCxnSpPr>
        <p:spPr>
          <a:xfrm>
            <a:off x="3637080" y="2600280"/>
            <a:ext cx="791280" cy="396000"/>
          </a:xfrm>
          <a:prstGeom prst="bentConnector3">
            <a:avLst>
              <a:gd name="adj1" fmla="val 49795"/>
            </a:avLst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9" idx="4"/>
            <a:endCxn id="105" idx="1"/>
          </p:cNvCxnSpPr>
          <p:nvPr/>
        </p:nvCxnSpPr>
        <p:spPr>
          <a:xfrm flipV="1">
            <a:off x="3710160" y="3464640"/>
            <a:ext cx="575280" cy="1475640"/>
          </a:xfrm>
          <a:prstGeom prst="bentConnector3">
            <a:avLst>
              <a:gd name="adj1" fmla="val 49718"/>
            </a:avLst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9" idx="1"/>
            <a:endCxn id="104" idx="2"/>
          </p:cNvCxnSpPr>
          <p:nvPr/>
        </p:nvCxnSpPr>
        <p:spPr>
          <a:xfrm flipV="1">
            <a:off x="3206520" y="4433040"/>
            <a:ext cx="1080" cy="291240"/>
          </a:xfrm>
          <a:prstGeom prst="bentConnector2">
            <a:avLst/>
          </a:prstGeom>
          <a:ln w="3240">
            <a:solidFill>
              <a:srgbClr val="000000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4429080" y="3718080"/>
            <a:ext cx="649440" cy="358560"/>
          </a:xfrm>
          <a:prstGeom prst="rect">
            <a:avLst/>
          </a:prstGeom>
          <a:gradFill rotWithShape="0">
            <a:gsLst>
              <a:gs pos="0">
                <a:srgbClr val="fee68a"/>
              </a:gs>
              <a:gs pos="100000">
                <a:srgbClr val="ffcc00">
                  <a:alpha val="88235"/>
                </a:srgbClr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I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4" idx="1"/>
            <a:endCxn id="103" idx="4"/>
          </p:cNvCxnSpPr>
          <p:nvPr/>
        </p:nvCxnSpPr>
        <p:spPr>
          <a:xfrm flipV="1" rot="10800000">
            <a:off x="1909080" y="4253400"/>
            <a:ext cx="792720" cy="903960"/>
          </a:xfrm>
          <a:prstGeom prst="bentConnector3">
            <a:avLst>
              <a:gd name="adj1" fmla="val 50068"/>
            </a:avLst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endCxn id="95" idx="2"/>
          </p:cNvCxnSpPr>
          <p:nvPr/>
        </p:nvCxnSpPr>
        <p:spPr>
          <a:xfrm flipV="1">
            <a:off x="1908000" y="4651200"/>
            <a:ext cx="2882160" cy="581400"/>
          </a:xfrm>
          <a:prstGeom prst="bentConnector2">
            <a:avLst/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94" idx="2"/>
          </p:cNvCxnSpPr>
          <p:nvPr/>
        </p:nvCxnSpPr>
        <p:spPr>
          <a:xfrm rot="5400000">
            <a:off x="3994920" y="2636640"/>
            <a:ext cx="651600" cy="4826880"/>
          </a:xfrm>
          <a:prstGeom prst="bentConnector2">
            <a:avLst/>
          </a:prstGeom>
          <a:ln w="324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6373800" y="3213000"/>
            <a:ext cx="649440" cy="935280"/>
          </a:xfrm>
          <a:prstGeom prst="rect">
            <a:avLst/>
          </a:prstGeom>
          <a:gradFill rotWithShape="0">
            <a:gsLst>
              <a:gs pos="0">
                <a:srgbClr val="fee68a"/>
              </a:gs>
              <a:gs pos="100000">
                <a:srgbClr val="ffcc00">
                  <a:alpha val="88235"/>
                </a:srgbClr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I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3"/>
            <a:endCxn id="95" idx="3"/>
          </p:cNvCxnSpPr>
          <p:nvPr/>
        </p:nvCxnSpPr>
        <p:spPr>
          <a:xfrm>
            <a:off x="5292720" y="3465360"/>
            <a:ext cx="2160" cy="899280"/>
          </a:xfrm>
          <a:prstGeom prst="bentConnector3">
            <a:avLst>
              <a:gd name="adj1" fmla="val 14300000"/>
            </a:avLst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endCxn id="93" idx="0"/>
          </p:cNvCxnSpPr>
          <p:nvPr/>
        </p:nvCxnSpPr>
        <p:spPr>
          <a:xfrm flipV="1">
            <a:off x="5292720" y="2636280"/>
            <a:ext cx="1442160" cy="757800"/>
          </a:xfrm>
          <a:prstGeom prst="bentConnector4">
            <a:avLst>
              <a:gd name="adj1" fmla="val 15855"/>
              <a:gd name="adj2" fmla="val 130180"/>
            </a:avLst>
          </a:prstGeom>
          <a:ln w="324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6229440" y="1989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IP: 5.2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57800" y="1989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IP: 1.2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3440" y="1989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IP: 1.2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73080" y="19890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IP: 1.2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03" idx="1"/>
            <a:endCxn id="100" idx="3"/>
          </p:cNvCxnSpPr>
          <p:nvPr/>
        </p:nvCxnSpPr>
        <p:spPr>
          <a:xfrm flipV="1">
            <a:off x="1406160" y="4652640"/>
            <a:ext cx="1080" cy="144720"/>
          </a:xfrm>
          <a:prstGeom prst="straightConnector1">
            <a:avLst/>
          </a:prstGeom>
          <a:ln w="32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93" idx="3"/>
          </p:cNvCxnSpPr>
          <p:nvPr/>
        </p:nvCxnSpPr>
        <p:spPr>
          <a:xfrm flipV="1">
            <a:off x="7237080" y="2491920"/>
            <a:ext cx="577080" cy="4327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94" idx="3"/>
          </p:cNvCxnSpPr>
          <p:nvPr/>
        </p:nvCxnSpPr>
        <p:spPr>
          <a:xfrm>
            <a:off x="7237440" y="4437000"/>
            <a:ext cx="721440" cy="4327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7357680" y="275436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htt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14920" y="43639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29680" y="1989000"/>
            <a:ext cx="136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Arial"/>
              </a:rPr>
              <a:t>SafeSeaN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Arial"/>
              </a:rPr>
              <a:t>Brussel/Luxembu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34640" y="4975200"/>
            <a:ext cx="1489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WEB www.shiprep.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XML is co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5920" y="142920"/>
            <a:ext cx="8866080" cy="6572160"/>
          </a:xfrm>
          <a:prstGeom prst="rect">
            <a:avLst/>
          </a:prstGeom>
          <a:solidFill>
            <a:srgbClr val="0066cc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85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243d"/>
                </a:solidFill>
                <a:latin typeface="Arial"/>
              </a:rPr>
              <a:t>Natitonal system</a:t>
            </a:r>
            <a:endParaRPr b="1" lang="en-US" sz="4000" spc="-1" strike="noStrike">
              <a:solidFill>
                <a:srgbClr val="01243d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73520" y="844560"/>
          <a:ext cx="4595760" cy="581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73520" y="844560"/>
                    <a:ext cx="4595760" cy="58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243d"/>
                </a:solidFill>
                <a:latin typeface="Arial"/>
              </a:rPr>
              <a:t>The National system in real</a:t>
            </a:r>
            <a:endParaRPr b="1" lang="en-US" sz="40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The norwegian national SafeSeaNet system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shiprep.no</a:t>
            </a:r>
            <a:endParaRPr b="1" lang="en-US" sz="2800" spc="-1" strike="noStrike">
              <a:solidFill>
                <a:srgbClr val="01243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1243d"/>
                </a:solidFill>
                <a:latin typeface="Arial"/>
              </a:rPr>
              <a:t>Screen shots:</a:t>
            </a:r>
            <a:r>
              <a:rPr b="1" lang="nb-NO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National</a:t>
            </a:r>
            <a:r>
              <a:rPr b="1" lang="nb-NO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SafeSeaNet </a:t>
            </a:r>
            <a:r>
              <a:rPr b="1" lang="nb-NO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solution-D.ppt</a:t>
            </a:r>
            <a:endParaRPr b="1" lang="en-US" sz="2800" spc="-1" strike="noStrike">
              <a:solidFill>
                <a:srgbClr val="0124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0920" y="189000"/>
            <a:ext cx="685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Expectation for the future</a:t>
            </a:r>
            <a:endParaRPr b="1" lang="en-US" sz="40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Secure existing collective implementation and operational experience while it is available and current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243d"/>
                </a:solidFill>
                <a:latin typeface="Arial"/>
              </a:rPr>
              <a:t>Gather early implementers specific thoughts on SSN future</a:t>
            </a:r>
            <a:endParaRPr b="1" lang="en-US" sz="2800" spc="-1" strike="noStrike">
              <a:solidFill>
                <a:srgbClr val="01243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243d"/>
                </a:solidFill>
                <a:latin typeface="Arial"/>
              </a:rPr>
              <a:t>Organize a workshop to create a knowledge base.</a:t>
            </a:r>
            <a:endParaRPr b="1" lang="en-US" sz="2800" spc="-1" strike="noStrike">
              <a:solidFill>
                <a:srgbClr val="01243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24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858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Expectation for the future</a:t>
            </a:r>
            <a:endParaRPr b="1" lang="en-US" sz="40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Execute a new phase setting short term and long term objectives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243d"/>
                </a:solidFill>
                <a:latin typeface="Arial"/>
              </a:rPr>
              <a:t>Execute a member state user requirement phase</a:t>
            </a:r>
            <a:endParaRPr b="1" lang="en-US" sz="2800" spc="-1" strike="noStrike">
              <a:solidFill>
                <a:srgbClr val="01243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243d"/>
                </a:solidFill>
                <a:latin typeface="Arial"/>
              </a:rPr>
              <a:t>Prepare for several Member State meetings</a:t>
            </a:r>
            <a:endParaRPr b="1" lang="en-US" sz="2800" spc="-1" strike="noStrike">
              <a:solidFill>
                <a:srgbClr val="01243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243d"/>
                </a:solidFill>
                <a:latin typeface="Arial"/>
              </a:rPr>
              <a:t>Prepare for Member State activation</a:t>
            </a:r>
            <a:endParaRPr b="1" lang="en-US" sz="2800" spc="-1" strike="noStrike">
              <a:solidFill>
                <a:srgbClr val="0124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858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Expectation for the future</a:t>
            </a:r>
            <a:endParaRPr b="1" lang="en-US" sz="40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Adjust the existing SafeSeaNet to optimize the functionality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Extend the functionality to fulfil the member states needs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Harmonize the maritime information flow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Develop standards to support the information flows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340000" y="3905280"/>
            <a:ext cx="1996920" cy="2952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916360" y="189000"/>
            <a:ext cx="5616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anks t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Gilles Bergot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and his team. Congratul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05:32:04Z</dcterms:created>
  <dc:creator>Reidar Kjennbakken</dc:creator>
  <dc:description/>
  <dc:language>en-US</dc:language>
  <cp:lastModifiedBy>Reidar Kjennbakken</cp:lastModifiedBy>
  <dcterms:modified xsi:type="dcterms:W3CDTF">2004-10-25T11:03:54Z</dcterms:modified>
  <cp:revision>15</cp:revision>
  <dc:subject/>
  <dc:title>National SafeSeaNet in Norway</dc:title>
</cp:coreProperties>
</file>