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978-5C6A-47A9-8380-E86133EA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58D-63E3-49CB-B27F-894EDC92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B51-5E32-474B-9294-C9752821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CC4-5336-4429-92EF-BED9EDFA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C7B-95B6-42D3-A69A-18C8617E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B64-A935-42F3-91AE-95DBF93D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631-C118-443F-B633-FC7D2894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12C-9DE5-4718-99E3-A4C88DFB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3EB-F878-4312-AAE6-FDD416D2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CC2-F3E7-490E-A578-518D05A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A7D-4794-4CEA-9E70-D7D6D548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53F-0071-4994-AE5E-003B4CC3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B3E3-4EF2-42D0-B47D-2A2DF515C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925560"/>
            <a:ext cx="9144000" cy="578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List%20ports.xl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90720"/>
            <a:ext cx="228600" cy="5867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3049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0666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3240"/>
            <a:ext cx="731880" cy="99396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2860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0280" y="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70040" y="198360"/>
            <a:ext cx="568080" cy="566640"/>
            <a:chOff x="770040" y="198360"/>
            <a:chExt cx="568080" cy="566640"/>
          </a:xfrm>
        </p:grpSpPr>
        <p:sp>
          <p:nvSpPr>
            <p:cNvPr id="49" name=""/>
            <p:cNvSpPr/>
            <p:nvPr/>
          </p:nvSpPr>
          <p:spPr>
            <a:xfrm>
              <a:off x="1041480" y="198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9640" y="33012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65320" y="6969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76480" y="2379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6480" y="2350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4651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4604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66840" y="3319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68280" y="59544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1720" y="5875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33560" y="7286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2080" y="68436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28800" y="1170000"/>
            <a:ext cx="7932600" cy="1630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-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MENT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2 - Interface Control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9000" y="6400800"/>
            <a:ext cx="606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98600" y="6413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41160" y="812880"/>
            <a:ext cx="6032520" cy="4572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3 -I O C – 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System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247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76440" y="1457280"/>
          <a:ext cx="7772400" cy="4907160"/>
        </p:xfrm>
        <a:graphic>
          <a:graphicData uri="http://schemas.openxmlformats.org/drawingml/2006/table">
            <a:tbl>
              <a:tblPr/>
              <a:tblGrid>
                <a:gridCol w="1306440"/>
                <a:gridCol w="544320"/>
                <a:gridCol w="433440"/>
                <a:gridCol w="433440"/>
                <a:gridCol w="368280"/>
                <a:gridCol w="279360"/>
                <a:gridCol w="506520"/>
                <a:gridCol w="39006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ber 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est test cyc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at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a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giu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il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participated in 2 official test cycles, testing their xml interface. Not all message types have been tested. Suggest new test cycles where they act as data provider to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iting for official NCA contact point with phone/fax and ema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requested to open SSN for other official instances like Custo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pr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nmar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ch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not participated yet. Same status as at the end of T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iting for official NCA contact point with phone/fax and ema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o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shown interest in participating. No requests for user accounts received ye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pt 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test 01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hange in situation since end of T1. Waiting for new contact persons which will continue the implementatio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iting for official NCA contact point with phone/fax and 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b. 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ficial test activities detected, status remains the same as at the end of T1 although we have had indicated that their local integration with Traffic2000 has advance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new contact persons stored. Waiting for official NCA contact point with phone/fax and ema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man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participated in 1 official test cycle, through web interfac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received test report. They prefer to no retest again because our application is not compliant with Directive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information on their local xml implementation or interfacing with SS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iting for official NCA contact point with phone/fax and ema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272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57360" y="1143000"/>
          <a:ext cx="7772400" cy="5303880"/>
        </p:xfrm>
        <a:graphic>
          <a:graphicData uri="http://schemas.openxmlformats.org/drawingml/2006/table">
            <a:tbl>
              <a:tblPr/>
              <a:tblGrid>
                <a:gridCol w="1306440"/>
                <a:gridCol w="544320"/>
                <a:gridCol w="433440"/>
                <a:gridCol w="433440"/>
                <a:gridCol w="368280"/>
                <a:gridCol w="279360"/>
                <a:gridCol w="506520"/>
                <a:gridCol w="3900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ee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ch 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participated in 1 official test cycle, through web and xml interfac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received test report. Implementation is not flawless. We suggest more test cycles (especially to cover xml schema v1.6) from more location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iting for official NCA contact point with phone/fax and ema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ficial test cycl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appear to have started local implementatio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a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ficial test cycles ye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requested user account. User account received. Intends to test through web interfa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v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shown interest in participating. No requests for user accounts received ye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hu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shown interest in participating. No requests for user accounts received ye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herla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if in XML format / Request in Web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tested the web interfa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taken part in 5 official test cyc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provided test and bug repor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orary but official NCA contact point with phone/fax and email is assigne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ed sending notifications, received receip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ed sending of notifications requests, received respo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web user accounts have been created for Dutch port agencies. Awaiting official test cycles from the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w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uary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 official test cycles where XML interface was tested and verified through web interface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st and receive details is not yet faultless. Further test cycles require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types of messages were tested, acting as data provider and data requeste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d some problems with optional and mandatory attributes for particular notification detail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iting for official NCA contact point with phone/fax and ema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294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8720" y="1200240"/>
          <a:ext cx="7629480" cy="4895280"/>
        </p:xfrm>
        <a:graphic>
          <a:graphicData uri="http://schemas.openxmlformats.org/drawingml/2006/table">
            <a:tbl>
              <a:tblPr/>
              <a:tblGrid>
                <a:gridCol w="1282320"/>
                <a:gridCol w="534600"/>
                <a:gridCol w="425520"/>
                <a:gridCol w="425160"/>
                <a:gridCol w="361800"/>
                <a:gridCol w="274320"/>
                <a:gridCol w="496800"/>
                <a:gridCol w="38289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e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participated in 1 official test cycle, through web interfa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received test repor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iting for official NCA contact point with phone/fax and 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v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vak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a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ficial test cycles. Appears to be a local administrative problem to start the implementatio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d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il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new contact persons are store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participated in 1 official test cycl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provided exhaustive list of Swedish location cod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 tested through xml interface all types of messages. Results are not satisfactory. More test cycles are require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iting for official NCA contact point with phone/fax and 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Kingd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ficial test cycl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l government requests support for EDI(FACT) before starting with local implementation. Is out of scope for SSN v1.x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990720"/>
            <a:ext cx="228600" cy="5867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049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4160" y="10666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-3240"/>
            <a:ext cx="731880" cy="99396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2860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0280" y="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70040" y="198360"/>
            <a:ext cx="568080" cy="566640"/>
            <a:chOff x="770040" y="198360"/>
            <a:chExt cx="568080" cy="566640"/>
          </a:xfrm>
        </p:grpSpPr>
        <p:sp>
          <p:nvSpPr>
            <p:cNvPr id="315" name=""/>
            <p:cNvSpPr/>
            <p:nvPr/>
          </p:nvSpPr>
          <p:spPr>
            <a:xfrm>
              <a:off x="1041480" y="198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9640" y="33012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65320" y="6969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76480" y="2379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6480" y="2350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0040" y="4651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01760" y="4604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6840" y="3319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68280" y="59544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1720" y="5875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33560" y="7286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92080" y="68436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989000" y="6400800"/>
            <a:ext cx="606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98600" y="65833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 rot="5400000">
            <a:off x="-2029320" y="3533760"/>
            <a:ext cx="507708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ticipating Statu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633680" y="1181160"/>
            <a:ext cx="6114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339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03240" y="1206360"/>
            <a:ext cx="6032520" cy="520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l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ationa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2336760"/>
            <a:ext cx="8153640" cy="3796920"/>
          </a:xfrm>
          <a:prstGeom prst="rect">
            <a:avLst/>
          </a:prstGeom>
          <a:solidFill>
            <a:srgbClr val="cc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fully compliant with the ICD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ain system available 24h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and implement new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a Test support to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st the new incoming Member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87240" y="1155600"/>
            <a:ext cx="6172200" cy="736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 Control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3840" y="2171880"/>
            <a:ext cx="8547120" cy="4114800"/>
          </a:xfrm>
          <a:prstGeom prst="rect">
            <a:avLst/>
          </a:prstGeom>
          <a:solidFill>
            <a:srgbClr val="cc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cum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 review on 17 Jun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 received from Portugal, Netherlands and U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version ICD rev 01  dated Sept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/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of new section 6.3 System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364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384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12720" y="1180800"/>
            <a:ext cx="5562360" cy="584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 Control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5440" y="2812680"/>
            <a:ext cx="7794360" cy="3057480"/>
          </a:xfrm>
          <a:prstGeom prst="rect">
            <a:avLst/>
          </a:prstGeom>
          <a:solidFill>
            <a:srgbClr val="cc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ion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val of th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ion 6 System inform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ion 7 System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ate Competent Author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 in annex A, B and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314440" y="1418760"/>
            <a:ext cx="5315040" cy="561960"/>
          </a:xfrm>
          <a:prstGeom prst="rect">
            <a:avLst/>
          </a:prstGeom>
          <a:solidFill>
            <a:srgbClr val="eaeaea">
              <a:alpha val="7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Times New Roman"/>
              </a:rPr>
              <a:t>Members States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28720" y="2946240"/>
            <a:ext cx="7772400" cy="2076480"/>
          </a:xfrm>
          <a:prstGeom prst="rect">
            <a:avLst/>
          </a:prstGeom>
          <a:solidFill>
            <a:srgbClr val="cc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 of LOCODE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lea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ct persons in  Member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CA designation and contact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 designation and contact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408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429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27160" y="2971440"/>
            <a:ext cx="7709040" cy="1536840"/>
          </a:xfrm>
          <a:prstGeom prst="rect">
            <a:avLst/>
          </a:prstGeom>
          <a:solidFill>
            <a:srgbClr val="eaeaea">
              <a:alpha val="9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and rema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743040" y="2101680"/>
            <a:ext cx="7772400" cy="3695760"/>
          </a:xfrm>
          <a:prstGeom prst="rect">
            <a:avLst/>
          </a:prstGeom>
          <a:solidFill>
            <a:srgbClr val="eaeaea">
              <a:alpha val="8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EXT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entative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ining session : 16 December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ew Members State 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ork Shop  : 27 January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452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38280" y="812520"/>
            <a:ext cx="8137440" cy="4267080"/>
          </a:xfrm>
          <a:prstGeom prst="rect">
            <a:avLst/>
          </a:prstGeom>
          <a:solidFill>
            <a:srgbClr val="ccffff">
              <a:alpha val="73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MSA-te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 Lazaros  Aichmalotid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nior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 Yannick Texie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ject Offi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 Ulrik Deriemaeck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T C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 Ulf Birgande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 Exp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</a:rPr>
              <a:t>- Yves Hardy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</a:rPr>
              <a:t>IT Support </a:t>
            </a: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(until 12/04)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   : 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REN-SAFESEANET-EMSA@cec.eu.in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9720" y="1954080"/>
            <a:ext cx="80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73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990720"/>
            <a:ext cx="228600" cy="5867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3049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0666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-3240"/>
            <a:ext cx="731880" cy="99396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2860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0280" y="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0040" y="198360"/>
            <a:ext cx="568080" cy="566640"/>
            <a:chOff x="770040" y="198360"/>
            <a:chExt cx="568080" cy="566640"/>
          </a:xfrm>
        </p:grpSpPr>
        <p:sp>
          <p:nvSpPr>
            <p:cNvPr id="93" name=""/>
            <p:cNvSpPr/>
            <p:nvPr/>
          </p:nvSpPr>
          <p:spPr>
            <a:xfrm>
              <a:off x="1041480" y="198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640" y="33012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65320" y="6969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76480" y="2379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6480" y="2350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0040" y="4651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1760" y="4604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66840" y="3319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68280" y="59544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1720" y="5875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33560" y="7286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2080" y="68436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98600" y="6413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6240" y="1236600"/>
            <a:ext cx="72835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2760" y="2108160"/>
            <a:ext cx="6845400" cy="3378240"/>
          </a:xfrm>
          <a:prstGeom prst="rect">
            <a:avLst/>
          </a:prstGeom>
          <a:solidFill>
            <a:srgbClr val="cc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- Enter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 in exploita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- Correct/adjust when necessary in view of the Full Operational Capabilit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 – Perform Test support for M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 – Evaluate  furth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90720"/>
            <a:ext cx="228600" cy="5867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3049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160" y="10666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-3240"/>
            <a:ext cx="731880" cy="99396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2860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280" y="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70040" y="198360"/>
            <a:ext cx="568080" cy="566640"/>
            <a:chOff x="770040" y="198360"/>
            <a:chExt cx="568080" cy="566640"/>
          </a:xfrm>
        </p:grpSpPr>
        <p:sp>
          <p:nvSpPr>
            <p:cNvPr id="115" name=""/>
            <p:cNvSpPr/>
            <p:nvPr/>
          </p:nvSpPr>
          <p:spPr>
            <a:xfrm>
              <a:off x="1041480" y="198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9640" y="33012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65320" y="6969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6480" y="2379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6480" y="2350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0040" y="4651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01760" y="4604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66840" y="3319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68280" y="59544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1720" y="5875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33560" y="7286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2080" y="68436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98600" y="6413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4520" y="1171440"/>
            <a:ext cx="4848120" cy="520560"/>
          </a:xfrm>
          <a:prstGeom prst="rect">
            <a:avLst/>
          </a:prstGeom>
          <a:solidFill>
            <a:srgbClr val="eaeaea">
              <a:alpha val="4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1-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ia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ationa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96880" y="1854360"/>
            <a:ext cx="8292960" cy="4520880"/>
          </a:xfrm>
          <a:prstGeom prst="rect">
            <a:avLst/>
          </a:prstGeom>
          <a:solidFill>
            <a:srgbClr val="ccffff">
              <a:alpha val="8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itialisation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ational Authorities designation (art 16 &amp; art. 22 of Dir. 2002/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Name, contact details to pro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CA  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ID use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reation under EMSA respo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ist of </a:t>
            </a:r>
            <a:r>
              <a:rPr b="0" lang="en-GB" sz="2000" spc="-1" strike="noStrike" u="sng">
                <a:solidFill>
                  <a:srgbClr val="000066"/>
                </a:solidFill>
                <a:uFillTx/>
                <a:latin typeface="Times New Roman"/>
                <a:hlinkClick r:id="rId1"/>
              </a:rPr>
              <a:t>LOCOD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( reviewed by 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itial List of Shi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rver certificates ( see procedure detailed in SSN doc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ployment on Production site at Data Centre ( URL to be distributed by EM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138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3320" y="1146240"/>
            <a:ext cx="5254560" cy="459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1 -I O C System 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937640" cy="4203720"/>
          </a:xfrm>
          <a:prstGeom prst="rect">
            <a:avLst/>
          </a:prstGeom>
          <a:solidFill>
            <a:srgbClr val="ccffff">
              <a:alpha val="8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trac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elpdesk : 24h/day and 1st line re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.S. test support : 5 days/week from 20/10/04 to 19/03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rrect and adapt the system in accordance with users  feedb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rganize 1 Training  session (6 h00) for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paration of 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90720"/>
            <a:ext cx="228600" cy="5867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3049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4160" y="10666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-3240"/>
            <a:ext cx="731880" cy="99396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22860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0280" y="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6360" y="444600"/>
            <a:ext cx="3672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57080" y="212760"/>
            <a:ext cx="568080" cy="566640"/>
            <a:chOff x="757080" y="212760"/>
            <a:chExt cx="568080" cy="566640"/>
          </a:xfrm>
        </p:grpSpPr>
        <p:sp>
          <p:nvSpPr>
            <p:cNvPr id="161" name=""/>
            <p:cNvSpPr/>
            <p:nvPr/>
          </p:nvSpPr>
          <p:spPr>
            <a:xfrm>
              <a:off x="1028520" y="2127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680" y="34452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2360" y="711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3520" y="252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3520" y="2494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7080" y="4795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88800" y="4748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53880" y="346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320" y="60984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8760" y="6019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0600" y="74304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79120" y="69876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298600" y="6413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46440" y="1209600"/>
            <a:ext cx="5584680" cy="459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1 - I O C System 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17520" y="1981080"/>
            <a:ext cx="8648640" cy="4470480"/>
          </a:xfrm>
          <a:prstGeom prst="rect">
            <a:avLst/>
          </a:prstGeom>
          <a:solidFill>
            <a:srgbClr val="ccffff">
              <a:alpha val="8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ystem Hosting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rvice Level Agreement  with Data Centre who guaran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ployment of the system on powerfu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stem availability on 24h/day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utomatic surveillance of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tec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mergency plan (in case of major 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ise and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184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00240" y="1171440"/>
            <a:ext cx="5622840" cy="459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1- I O C System 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6760" y="1676160"/>
            <a:ext cx="3975120" cy="4647960"/>
          </a:xfrm>
          <a:prstGeom prst="rect">
            <a:avLst/>
          </a:prstGeom>
          <a:solidFill>
            <a:srgbClr val="ccffff">
              <a:alpha val="8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feSeaNet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ttp://www.emsa.eu.int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 general information to all publ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 a system information for SSN us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st of  Documents , Competent authorities, et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ing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ibute  to disseminate relevant information to the shipping industry in relation with Dir.2002/59. art 16 and art.22 para.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titute to CI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5680" y="1628640"/>
            <a:ext cx="878832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413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207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27320" y="752400"/>
            <a:ext cx="5661000" cy="459720"/>
          </a:xfrm>
          <a:prstGeom prst="rect">
            <a:avLst/>
          </a:prstGeom>
          <a:solidFill>
            <a:srgbClr val="eaeaea">
              <a:alpha val="9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1 -I O C System 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08640" y="1733400"/>
            <a:ext cx="441936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9440" y="1968480"/>
            <a:ext cx="8471160" cy="3898800"/>
          </a:xfrm>
          <a:prstGeom prst="rect">
            <a:avLst/>
          </a:prstGeom>
          <a:solidFill>
            <a:srgbClr val="cc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: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rect/Adapt  the system in view of the FO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Actions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llect and analyse 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User Feedback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pose the correction/adaptation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view the system with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fine further development to implement from March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93600"/>
            <a:ext cx="228600" cy="5867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307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UROPEAN MARITIME SAFET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4160" y="10699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731880" cy="993600"/>
          </a:xfrm>
          <a:custGeom>
            <a:avLst/>
            <a:gdLst/>
            <a:ahLst/>
            <a:rect l="l" t="t" r="r" b="b"/>
            <a:pathLst>
              <a:path w="461" h="626">
                <a:moveTo>
                  <a:pt x="98" y="0"/>
                </a:moveTo>
                <a:lnTo>
                  <a:pt x="0" y="189"/>
                </a:lnTo>
                <a:lnTo>
                  <a:pt x="0" y="625"/>
                </a:lnTo>
                <a:lnTo>
                  <a:pt x="144" y="626"/>
                </a:lnTo>
                <a:lnTo>
                  <a:pt x="461" y="0"/>
                </a:lnTo>
                <a:lnTo>
                  <a:pt x="98" y="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31840"/>
            <a:ext cx="36360" cy="36360"/>
          </a:xfrm>
          <a:custGeom>
            <a:avLst/>
            <a:gdLst/>
            <a:ahLst/>
            <a:rect l="l" t="t" r="r" b="b"/>
            <a:pathLst>
              <a:path w="114" h="110">
                <a:moveTo>
                  <a:pt x="0" y="41"/>
                </a:moveTo>
                <a:lnTo>
                  <a:pt x="44" y="41"/>
                </a:lnTo>
                <a:lnTo>
                  <a:pt x="57" y="0"/>
                </a:lnTo>
                <a:lnTo>
                  <a:pt x="70" y="41"/>
                </a:lnTo>
                <a:lnTo>
                  <a:pt x="114" y="41"/>
                </a:lnTo>
                <a:lnTo>
                  <a:pt x="78" y="68"/>
                </a:lnTo>
                <a:lnTo>
                  <a:pt x="93" y="110"/>
                </a:lnTo>
                <a:lnTo>
                  <a:pt x="57" y="84"/>
                </a:lnTo>
                <a:lnTo>
                  <a:pt x="21" y="110"/>
                </a:lnTo>
                <a:lnTo>
                  <a:pt x="36" y="68"/>
                </a:lnTo>
                <a:lnTo>
                  <a:pt x="0" y="41"/>
                </a:lnTo>
              </a:path>
            </a:pathLst>
          </a:custGeom>
          <a:solidFill>
            <a:srgbClr val="ffff00"/>
          </a:solidFill>
          <a:ln w="5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0280" y="3240"/>
            <a:ext cx="1557360" cy="993600"/>
          </a:xfrm>
          <a:custGeom>
            <a:avLst/>
            <a:gdLst/>
            <a:ahLst/>
            <a:rect l="l" t="t" r="r" b="b"/>
            <a:pathLst>
              <a:path w="981" h="626">
                <a:moveTo>
                  <a:pt x="320" y="0"/>
                </a:moveTo>
                <a:lnTo>
                  <a:pt x="0" y="626"/>
                </a:lnTo>
                <a:lnTo>
                  <a:pt x="222" y="625"/>
                </a:lnTo>
                <a:lnTo>
                  <a:pt x="679" y="626"/>
                </a:lnTo>
                <a:lnTo>
                  <a:pt x="981" y="0"/>
                </a:lnTo>
                <a:lnTo>
                  <a:pt x="320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70040" y="201600"/>
            <a:ext cx="568080" cy="566640"/>
            <a:chOff x="770040" y="201600"/>
            <a:chExt cx="568080" cy="566640"/>
          </a:xfrm>
        </p:grpSpPr>
        <p:sp>
          <p:nvSpPr>
            <p:cNvPr id="230" name=""/>
            <p:cNvSpPr/>
            <p:nvPr/>
          </p:nvSpPr>
          <p:spPr>
            <a:xfrm>
              <a:off x="1041480" y="2016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9640" y="33336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65320" y="70020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76480" y="241200"/>
              <a:ext cx="36360" cy="3672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6480" y="23832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0040" y="4683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01760" y="4636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66840" y="3351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68280" y="59868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1720" y="59076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33560" y="731880"/>
              <a:ext cx="3636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92080" y="687600"/>
              <a:ext cx="36720" cy="3636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0" y="41"/>
                  </a:moveTo>
                  <a:lnTo>
                    <a:pt x="44" y="41"/>
                  </a:lnTo>
                  <a:lnTo>
                    <a:pt x="57" y="0"/>
                  </a:lnTo>
                  <a:lnTo>
                    <a:pt x="70" y="41"/>
                  </a:lnTo>
                  <a:lnTo>
                    <a:pt x="114" y="41"/>
                  </a:lnTo>
                  <a:lnTo>
                    <a:pt x="78" y="68"/>
                  </a:lnTo>
                  <a:lnTo>
                    <a:pt x="93" y="110"/>
                  </a:lnTo>
                  <a:lnTo>
                    <a:pt x="57" y="84"/>
                  </a:lnTo>
                  <a:lnTo>
                    <a:pt x="21" y="110"/>
                  </a:lnTo>
                  <a:lnTo>
                    <a:pt x="36" y="68"/>
                  </a:lnTo>
                  <a:lnTo>
                    <a:pt x="0" y="41"/>
                  </a:lnTo>
                </a:path>
              </a:pathLst>
            </a:custGeom>
            <a:solidFill>
              <a:srgbClr val="ffff00"/>
            </a:solidFill>
            <a:ln w="5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298600" y="6416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MSA _ Work Shop Brussels 20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7000" y="1171440"/>
            <a:ext cx="5432400" cy="459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2 -I O C Correction/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1:27:30Z</dcterms:created>
  <dc:creator>James Wood</dc:creator>
  <dc:description/>
  <dc:language>en-US</dc:language>
  <cp:lastModifiedBy>Deriemaecker Ulrik</cp:lastModifiedBy>
  <dcterms:modified xsi:type="dcterms:W3CDTF">2004-10-21T10:02:05Z</dcterms:modified>
  <cp:revision>49</cp:revision>
  <dc:subject/>
  <dc:title>No Slide Title</dc:title>
</cp:coreProperties>
</file>